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5.jpeg" ContentType="image/jpeg"/>
  <Override PartName="/ppt/media/image56.png" ContentType="image/png"/>
  <Override PartName="/ppt/media/image58.jpeg" ContentType="image/jpe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56F-0C2C-4287-8E8E-9BCB7AB6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C9B-D04D-40CB-8A9A-8B53663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D5371-B67B-4185-9509-A94969AF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C4658-9AF1-49BC-846E-01E8386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587E5-D3F6-47EE-92E4-AB0A4D8C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E67FE-AFCD-42B5-A332-26F5DE3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F7FA0-CEC3-4999-A84F-2C60E7D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9996A-8C4E-4D7B-B79B-AC0DF875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91827-8C1D-492E-A3CB-45C8479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3DF8E-A939-4463-9983-2A51BF4F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7B33E-542E-4F56-B1EB-287AE781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63469-4304-4549-B84E-BFDB9C1C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18A-1785-4D9C-9FDA-E9E1DDEA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77D20-FBD6-4EED-84DE-3D28ED3E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FCFF-AB5F-4433-B5E0-64547D9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E6736-7C7F-4E3A-A079-4804917A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05CC4-7139-4654-9F17-468529F8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6D86-8E0B-45FB-9FCB-1CD08C8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E22EA-DCB4-43DC-9233-D3F2C3D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316D3-815F-498F-8F19-080099A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2EC26-9DA8-455E-8A60-20C8A39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0EB58-D77F-4E0D-BFE2-8A488DD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BF013-A618-41AD-91A2-3F7ADE6C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BB2-4A78-4E35-A052-A9131E5B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F4603-AF77-40A1-9E34-24B55429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8513-5B7D-4053-A694-0D110B6A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6B903-DAF1-4EE9-8CF3-8EF9B226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28769-3542-4775-97B1-346D85C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36491-5A8D-484E-BB8A-478ADE7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842C0-C9E2-41BC-8FBE-D7BF331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19C1-4A5B-4773-B643-E30E145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A3AE1-597B-4AC0-8A7D-D897FC53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31F2-2097-405C-9131-41294B4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B699E-462F-46B7-82F4-A74D598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E70-8410-41B4-A5E7-83A86EF8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0E685-E441-474B-B02C-745B872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EFCD0-5EE3-4010-B9F3-844AFDEC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6710-A004-4FD9-945E-A620471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8B18B-C38B-4838-A65B-8ED82A2E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068BE-F579-40DC-9A90-F9C7A8C5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941E2-77B0-4973-847C-861484B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12278-99A2-4503-85C7-BB58AFF3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7FCFA-30BA-429F-8D4D-8920B85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648A1-3FB2-4435-AFDD-5566C8B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C4170-29D9-4666-BE49-1B47A5A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B78-045C-40DA-AA3D-2F388F8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792C2-78C4-4C74-8C8A-C0216CB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A2F6A-200C-4E01-8224-0D418CB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669C5-41AE-4D1A-8FCD-81848A40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D5ADD-309D-48B1-AAE0-5F9D7568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D0A5B-7834-4E70-AEB6-AA329F69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B7F-4705-4A16-B714-4B16E934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FA4-C432-4F71-816C-0E6BDE91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9876-B38C-41B7-AAC3-C15F6826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30BA-69B9-4D78-AC51-08D8EF7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87E-DBEF-4C90-8B9C-D524831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0ED-4BB7-4315-9930-C5B0A0F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E059-2FA6-4F31-B7F4-2A0E64C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4E2-6115-490A-9F31-031E6102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634-245C-4BB4-BC8A-7B46FCC4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E5C6-0226-4CF6-BEC9-9588BD24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38C-153B-4D0F-9FC2-8ADB1000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5313-4B01-4946-BE49-AEA8E8F2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8078-1C0D-414A-B91E-5F9F6B7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5300-821D-43B2-ACAC-3954EE1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BAD0-34E7-4305-8EA6-7CB3124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1C82-4C1E-4ECC-BD88-1902311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FDE-CEB8-49E6-80C0-35E9E84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9CB9-F3CF-4C56-915A-35F2781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BD72-7257-43A2-9CAD-4B9680F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1C4B-237F-4FD6-869F-58729A4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7565-66D3-4E89-9824-634187F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895E-B732-466E-903C-C1BD878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B19E-212D-4C05-A7CA-FEEF981B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5188-901C-43DB-B4CD-AD7CC1F4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A752-4CC2-4539-9FFA-12FB6447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80C5-93F1-4305-A207-F6F6D4D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C221-085C-4AFC-997D-F118001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DDF-57DE-4E5F-9AFC-B5A5F3C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CDCF-18B7-4115-88A1-D7149702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F72D-7D45-4055-9AA3-849931C3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FAAA-EE70-4387-AB87-9793F3F9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FB20-DDC4-4945-8F0C-B03563D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EB61-7348-4864-9BFF-E04DD9E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0CA8-2DB3-4B78-8EB5-351BF63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6891-8058-4904-9013-43A84E1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25EF-E4FD-4435-ADD7-8A16C5B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D213-B8FE-464C-942A-A535CB99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C7AA-2F2C-493D-BD73-6E6FAEEB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BAB-7BF4-4D21-A0FF-918F75A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FABF-F891-4B1A-8689-AC3944A7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4509-47C7-46B1-9E40-2575BAD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48CF4-E252-4502-B16E-BE987A1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3CE45-66AC-468B-84FC-C058F8A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9C44-4166-4DB0-88E5-D6C6371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1582-9F83-4BD7-89F6-BA1C16E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59F5-A0AF-4242-9FFE-4BED525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19CE-10F0-48CE-AFE2-0D974C3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6FBB-8C17-4856-804E-E3E0A4C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672A-47C5-4746-9249-9552A505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535-C000-4CEC-BA91-4516B17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D5BA-7C34-424B-96F7-E8650EF5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28D2-11A6-4BCC-83B7-899FFD72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A85CD-04D9-4E65-874F-E494D1B2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BD91-9727-4821-A597-68A900B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71FE-FF4A-4E24-A123-0102D0C4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E000C-36E9-4549-92D9-78FAD4C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25F7-DC62-4E02-93A8-98B1B72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B158-4D87-43CD-97B9-305B796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6027-424E-445F-B258-C7081DF5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B1E7-EC0B-47AE-9B37-B2E2BF1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C83-1B80-41DA-977E-16361BD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2E51-1648-496F-95BA-4D390C47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5DADB-11F9-4418-8FDC-A046D9EC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8137-C5EB-49FB-B372-CF8926A4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BE2F-0F48-4A5C-92C7-2C91CF5A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63FCC-BE0E-4017-8DE0-51A42F9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95F88-DCCD-4A85-8FA2-A933E960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60A1-E40A-4814-B489-A5E59E7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2F85C-09AF-4586-86FF-1A667798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8D64-134A-41F8-9EC4-D2E4987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371F1-A801-4620-AFB2-86A7138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DE4-CA85-43BB-8C37-B9B65F1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869B-DF71-456F-847E-CD06224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A416-9991-4D7E-807D-734DAD3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F4A3-D828-4C93-9AFC-DD4BC460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85C1-8345-4093-9507-83636EED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FBD1-A945-420F-88B3-0249DF56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37AE-1F69-4F98-A366-1E756E46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C48B-F0E1-4DC6-ADF7-C6257CAE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F27B-8C9A-46EF-BD34-51F20936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79EE-447A-47F5-8EA8-A22EF82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ABCA-193C-49E1-8FAB-AB3322BD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B79-C266-4345-A979-C78CEE4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CFBD5-7C3A-444A-A1F8-BF3E3E52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FEE72-0247-4F83-98CD-EBA4EDBB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162B-99CB-4C9C-9DF5-8610B9BD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9383-7E8F-46C8-96C9-111B669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4E060-4149-4630-84E1-FFF44AB6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6B826-E1BD-490C-A253-B0E2A54A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BC7A-2421-4116-9D70-EF5A72FB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D779B-4910-4EE3-9D88-4C0A9211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835A2-27CA-4E21-868B-45050C10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7C6AE-2B77-44B9-A1E9-0951202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234-AF45-43A9-9DA3-25F9C0E1D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289-ED73-499B-AF94-D86295D26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8B9F-9928-421B-BC86-03CFB166E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6E6-1B36-4FB7-A8F3-1BB61A823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B73-1790-4275-9A1F-6359B3C79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3DD8-F10A-46A4-B603-658ECC4E4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1F3-D4FE-4EF1-990B-EC09BFE82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FD25-C2BA-42D7-AEC8-AAA55B7005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F4E-FE27-4458-A11D-16AA6732D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C00-DEF3-4EAC-8941-C16AEDF1D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801B-C6DB-4D60-9939-EC156B82C6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C9AF-8BC6-44DA-8AA8-58B653F87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450720" y="382680"/>
            <a:ext cx="78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Monotype Corsiva"/>
              </a:rPr>
              <a:t>RADIOLOGIJA   KOŠTANOG  SISTE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Monotype Corsiva"/>
              </a:rPr>
              <a:t>Prof dr Milan Mijailovi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2195640" y="1944720"/>
            <a:ext cx="4744800" cy="4356000"/>
            <a:chOff x="2195640" y="1944720"/>
            <a:chExt cx="4744800" cy="4356000"/>
          </a:xfrm>
        </p:grpSpPr>
        <p:sp>
          <p:nvSpPr>
            <p:cNvPr id="608" name="Rectangle 4"/>
            <p:cNvSpPr/>
            <p:nvPr/>
          </p:nvSpPr>
          <p:spPr>
            <a:xfrm>
              <a:off x="2195640" y="1944720"/>
              <a:ext cx="4744800" cy="4356000"/>
            </a:xfrm>
            <a:prstGeom prst="rect">
              <a:avLst/>
            </a:prstGeom>
            <a:gradFill rotWithShape="0">
              <a:gsLst>
                <a:gs pos="0">
                  <a:srgbClr val="646b86"/>
                </a:gs>
                <a:gs pos="100000">
                  <a:srgbClr val="ff0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4856400" y="5947920"/>
              <a:ext cx="150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10" name="Picture 6" descr="tbc 1"/>
            <p:cNvPicPr/>
            <p:nvPr/>
          </p:nvPicPr>
          <p:blipFill>
            <a:blip r:embed="rId1"/>
            <a:stretch/>
          </p:blipFill>
          <p:spPr>
            <a:xfrm>
              <a:off x="2775240" y="2352600"/>
              <a:ext cx="347904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06440" y="914040"/>
            <a:ext cx="83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Vrsta traum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oblik i vrsta frakture (savijanje, kompresija, torzija, trakcija, ablacija, penetracija, frakture zbog premora (marš fraktur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umatsk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otvorene, zatvorene) i patološke frakture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otpu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oprečne, uzdužne, spiralne, zvezdaste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Nepotpune: fisura – nepotpun prekid kontinuiteta, infrakcija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Georgia"/>
              </a:rPr>
              <a:t>Rtg znaci prelo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Frakturna pukoti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svetlina koja zahvata celu širinu kosti ili jedan deo – fisura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rekid kontinuiteta kost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“frakturna stepenica”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islokacija fragmenat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d longitudinem (promena du`ine kosti), ad latus (pomeranje u stranu), ad axin (angulacija); fractura impacta (utiskivanje frakturnih delova), subperiostalna fraktura ( “oblik zelene grane”, mlađi, šatorasto izbočenje, sačuvan periost ), multifragmentarne, kompresivne (pršljensko telo),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lu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fraktura u sanaciji; vibrozna veza fragmenata – pseudoarthrosis, bez kalusa – neoarthrosis, osteoporoza (M. Sudeck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2228760" y="0"/>
            <a:ext cx="4979880" cy="861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Fraktura kostiju</a:t>
            </a:r>
            <a:r>
              <a:rPr b="0" i="1" lang="sl-SI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deli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ični il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potpuni prekid kontinuiteta k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fract1"/>
          <p:cNvPicPr/>
          <p:nvPr/>
        </p:nvPicPr>
        <p:blipFill>
          <a:blip r:embed="rId1"/>
          <a:stretch/>
        </p:blipFill>
        <p:spPr>
          <a:xfrm>
            <a:off x="338040" y="304920"/>
            <a:ext cx="1965600" cy="6248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" descr="fract2"/>
          <p:cNvPicPr/>
          <p:nvPr/>
        </p:nvPicPr>
        <p:blipFill>
          <a:blip r:embed="rId2"/>
          <a:stretch/>
        </p:blipFill>
        <p:spPr>
          <a:xfrm>
            <a:off x="2438280" y="258840"/>
            <a:ext cx="2133720" cy="62942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fract3"/>
          <p:cNvPicPr/>
          <p:nvPr/>
        </p:nvPicPr>
        <p:blipFill>
          <a:blip r:embed="rId3"/>
          <a:stretch/>
        </p:blipFill>
        <p:spPr>
          <a:xfrm>
            <a:off x="4773600" y="228600"/>
            <a:ext cx="3919680" cy="35053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fract5"/>
          <p:cNvPicPr/>
          <p:nvPr/>
        </p:nvPicPr>
        <p:blipFill>
          <a:blip r:embed="rId4"/>
          <a:stretch/>
        </p:blipFill>
        <p:spPr>
          <a:xfrm>
            <a:off x="5011560" y="3411360"/>
            <a:ext cx="2989440" cy="3446640"/>
          </a:xfrm>
          <a:prstGeom prst="rect">
            <a:avLst/>
          </a:prstGeom>
          <a:ln w="0">
            <a:noFill/>
          </a:ln>
        </p:spPr>
      </p:pic>
      <p:sp>
        <p:nvSpPr>
          <p:cNvPr id="672" name="AutoShape 6"/>
          <p:cNvSpPr/>
          <p:nvPr/>
        </p:nvSpPr>
        <p:spPr>
          <a:xfrm>
            <a:off x="4572000" y="5029200"/>
            <a:ext cx="744480" cy="76320"/>
          </a:xfrm>
          <a:prstGeom prst="rightArrow">
            <a:avLst>
              <a:gd name="adj1" fmla="val 50000"/>
              <a:gd name="adj2" fmla="val 2438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5729400" y="441360"/>
            <a:ext cx="2838240" cy="703800"/>
          </a:xfrm>
          <a:prstGeom prst="rect">
            <a:avLst/>
          </a:prstGeom>
          <a:gradFill rotWithShape="0">
            <a:gsLst>
              <a:gs pos="0">
                <a:srgbClr val="612e22"/>
              </a:gs>
              <a:gs pos="100000">
                <a:srgbClr val="d16349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ura radii loco tip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AutoShape 8"/>
          <p:cNvSpPr/>
          <p:nvPr/>
        </p:nvSpPr>
        <p:spPr>
          <a:xfrm>
            <a:off x="4944960" y="1600200"/>
            <a:ext cx="744480" cy="76320"/>
          </a:xfrm>
          <a:prstGeom prst="rightArrow">
            <a:avLst>
              <a:gd name="adj1" fmla="val 50000"/>
              <a:gd name="adj2" fmla="val 2438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AutoShape 9"/>
          <p:cNvSpPr/>
          <p:nvPr/>
        </p:nvSpPr>
        <p:spPr>
          <a:xfrm rot="8405400">
            <a:off x="1401480" y="169488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AutoShape 10"/>
          <p:cNvSpPr/>
          <p:nvPr/>
        </p:nvSpPr>
        <p:spPr>
          <a:xfrm rot="9600600">
            <a:off x="8001000" y="144720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AutoShape 11"/>
          <p:cNvSpPr/>
          <p:nvPr/>
        </p:nvSpPr>
        <p:spPr>
          <a:xfrm rot="2298000">
            <a:off x="3130200" y="181620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fract4"/>
          <p:cNvPicPr/>
          <p:nvPr/>
        </p:nvPicPr>
        <p:blipFill>
          <a:blip r:embed="rId1"/>
          <a:stretch/>
        </p:blipFill>
        <p:spPr>
          <a:xfrm>
            <a:off x="271440" y="304920"/>
            <a:ext cx="2573280" cy="60195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426960" y="62485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seudoartro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0" name="Picture 4" descr="fract5"/>
          <p:cNvPicPr/>
          <p:nvPr/>
        </p:nvPicPr>
        <p:blipFill>
          <a:blip r:embed="rId2"/>
          <a:stretch/>
        </p:blipFill>
        <p:spPr>
          <a:xfrm>
            <a:off x="2979720" y="152280"/>
            <a:ext cx="3929040" cy="4496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fract5"/>
          <p:cNvPicPr/>
          <p:nvPr/>
        </p:nvPicPr>
        <p:blipFill>
          <a:blip r:embed="rId3"/>
          <a:stretch/>
        </p:blipFill>
        <p:spPr>
          <a:xfrm>
            <a:off x="2979720" y="4191120"/>
            <a:ext cx="3929040" cy="25146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fract5"/>
          <p:cNvPicPr/>
          <p:nvPr/>
        </p:nvPicPr>
        <p:blipFill>
          <a:blip r:embed="rId4"/>
          <a:stretch/>
        </p:blipFill>
        <p:spPr>
          <a:xfrm>
            <a:off x="7043760" y="228600"/>
            <a:ext cx="1762200" cy="2971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fract5"/>
          <p:cNvPicPr/>
          <p:nvPr/>
        </p:nvPicPr>
        <p:blipFill>
          <a:blip r:embed="rId5"/>
          <a:stretch/>
        </p:blipFill>
        <p:spPr>
          <a:xfrm>
            <a:off x="7246800" y="3429000"/>
            <a:ext cx="1625760" cy="32004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8"/>
          <p:cNvSpPr/>
          <p:nvPr/>
        </p:nvSpPr>
        <p:spPr>
          <a:xfrm>
            <a:off x="1150920" y="4038480"/>
            <a:ext cx="746280" cy="76320"/>
          </a:xfrm>
          <a:prstGeom prst="rightArrow">
            <a:avLst>
              <a:gd name="adj1" fmla="val 50000"/>
              <a:gd name="adj2" fmla="val 2444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AutoShape 9"/>
          <p:cNvSpPr/>
          <p:nvPr/>
        </p:nvSpPr>
        <p:spPr>
          <a:xfrm rot="18843000">
            <a:off x="4898160" y="2975760"/>
            <a:ext cx="838080" cy="68040"/>
          </a:xfrm>
          <a:prstGeom prst="rightArrow">
            <a:avLst>
              <a:gd name="adj1" fmla="val 50000"/>
              <a:gd name="adj2" fmla="val 30793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4468320" y="42307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ma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2"/>
              </a:rPr>
              <a:t>š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“  frak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7174800" y="385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Fractura vertebr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7715160" y="752400"/>
            <a:ext cx="12960" cy="54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13"/>
          <p:cNvSpPr/>
          <p:nvPr/>
        </p:nvSpPr>
        <p:spPr>
          <a:xfrm flipH="1">
            <a:off x="7905600" y="3740040"/>
            <a:ext cx="14400" cy="54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14"/>
          <p:cNvSpPr/>
          <p:nvPr/>
        </p:nvSpPr>
        <p:spPr>
          <a:xfrm flipV="1" rot="4359000">
            <a:off x="4756680" y="5376240"/>
            <a:ext cx="642960" cy="66240"/>
          </a:xfrm>
          <a:prstGeom prst="rightArrow">
            <a:avLst>
              <a:gd name="adj1" fmla="val 50000"/>
              <a:gd name="adj2" fmla="val 2426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7"/>
          <p:cNvPicPr/>
          <p:nvPr/>
        </p:nvPicPr>
        <p:blipFill>
          <a:blip r:embed="rId1"/>
          <a:stretch/>
        </p:blipFill>
        <p:spPr>
          <a:xfrm>
            <a:off x="619200" y="228600"/>
            <a:ext cx="7908840" cy="66294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"/>
          <p:cNvSpPr/>
          <p:nvPr/>
        </p:nvSpPr>
        <p:spPr>
          <a:xfrm>
            <a:off x="855720" y="228600"/>
            <a:ext cx="8061480" cy="520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2"/>
              </a:rPr>
              <a:t>Mogu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2"/>
              </a:rPr>
              <a:t>ć</a:t>
            </a:r>
            <a:r>
              <a:rPr b="1" lang="en-US" sz="2800" spc="-1" strike="noStrike">
                <a:solidFill>
                  <a:srgbClr val="ffff00"/>
                </a:solidFill>
                <a:latin typeface="Times New Roman2"/>
              </a:rPr>
              <a:t>e komplikacije nakon frakture kosti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506680" y="228240"/>
            <a:ext cx="358920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ffff00"/>
                </a:solidFill>
                <a:latin typeface="Times New Roman"/>
              </a:rPr>
              <a:t>Povrede zglobova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71080" y="980640"/>
            <a:ext cx="8534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Kontuzija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direktno dejstvo sile; nagnječenje periartikularnoih mekih tkiva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Uganuće (dystorsia)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indirektno dejstvo sile; oštećenje zlobne vreće i ligamenata, intaktni hrskavica i koštani okrajak; Rtg: deponovanje Ca</a:t>
            </a:r>
            <a:r>
              <a:rPr b="1" lang="sl-SI" sz="23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(hematom, zgl.čahura, ligament); avulzione fraktur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Iščašenja (luxatio)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poremećaj odnosa zgl. površina zgl.okrajaka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 completa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potpuni gubitak kontakta dve zgl.površine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incompleta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delimično izmeštanje zgl.površina, mestimično dodirivanje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 habitualis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ponavljanje luksacije bez traum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566640" y="484200"/>
            <a:ext cx="80503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Luksacije zgloba kuk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(prednje, zadnje, medijalne, lateral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raumatske luksacij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retko);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atološke luksacij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destr. i inflamat.bo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ongenitalna lukasacija (displazija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sporen razvoj i osifikacija, slabost ligamen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tg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prekid cervikoobturatorne linije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Menar-Šentonova linija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poj medijalne linije vrata femura i medijalni rub </a:t>
            </a:r>
            <a:r>
              <a:rPr b="1" i="1" lang="sl-SI" sz="2400" spc="-1" strike="noStrike">
                <a:solidFill>
                  <a:srgbClr val="ffffff"/>
                </a:solidFill>
                <a:latin typeface="Times New Roman"/>
              </a:rPr>
              <a:t>obturat. foramen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5167800" y="15876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Iščašenja (luxatio)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4741920" y="1143000"/>
            <a:ext cx="4145040" cy="5181480"/>
            <a:chOff x="4741920" y="1143000"/>
            <a:chExt cx="4145040" cy="5181480"/>
          </a:xfrm>
        </p:grpSpPr>
        <p:pic>
          <p:nvPicPr>
            <p:cNvPr id="699" name="Picture 4" descr="3"/>
            <p:cNvPicPr/>
            <p:nvPr/>
          </p:nvPicPr>
          <p:blipFill>
            <a:blip r:embed="rId1"/>
            <a:stretch/>
          </p:blipFill>
          <p:spPr>
            <a:xfrm>
              <a:off x="4741920" y="1143000"/>
              <a:ext cx="414504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AutoShape 5"/>
            <p:cNvSpPr/>
            <p:nvPr/>
          </p:nvSpPr>
          <p:spPr>
            <a:xfrm rot="6438600">
              <a:off x="6849360" y="2260440"/>
              <a:ext cx="1676520" cy="203040"/>
            </a:xfrm>
            <a:prstGeom prst="rightArrow">
              <a:avLst>
                <a:gd name="adj1" fmla="val 50000"/>
                <a:gd name="adj2" fmla="val 20642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1" name="Group 6"/>
          <p:cNvGrpSpPr/>
          <p:nvPr/>
        </p:nvGrpSpPr>
        <p:grpSpPr>
          <a:xfrm>
            <a:off x="304920" y="762120"/>
            <a:ext cx="4620960" cy="5715000"/>
            <a:chOff x="304920" y="762120"/>
            <a:chExt cx="4620960" cy="5715000"/>
          </a:xfrm>
        </p:grpSpPr>
        <p:pic>
          <p:nvPicPr>
            <p:cNvPr id="702" name="Picture 7" descr="2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426708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8"/>
            <p:cNvSpPr/>
            <p:nvPr/>
          </p:nvSpPr>
          <p:spPr>
            <a:xfrm rot="8381400">
              <a:off x="3538800" y="2471040"/>
              <a:ext cx="1489680" cy="228600"/>
            </a:xfrm>
            <a:prstGeom prst="rightArrow">
              <a:avLst>
                <a:gd name="adj1" fmla="val 50000"/>
                <a:gd name="adj2" fmla="val 16291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2"/>
          <p:cNvPicPr/>
          <p:nvPr/>
        </p:nvPicPr>
        <p:blipFill>
          <a:blip r:embed="rId1"/>
          <a:stretch/>
        </p:blipFill>
        <p:spPr>
          <a:xfrm>
            <a:off x="4470480" y="152280"/>
            <a:ext cx="3419280" cy="257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1"/>
          <p:cNvPicPr/>
          <p:nvPr/>
        </p:nvPicPr>
        <p:blipFill>
          <a:blip r:embed="rId2"/>
          <a:stretch/>
        </p:blipFill>
        <p:spPr>
          <a:xfrm>
            <a:off x="271440" y="1219320"/>
            <a:ext cx="3454560" cy="48765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4"/>
          <p:cNvSpPr/>
          <p:nvPr/>
        </p:nvSpPr>
        <p:spPr>
          <a:xfrm>
            <a:off x="135000" y="4572000"/>
            <a:ext cx="406404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enar-Šentonova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cerviko - obturatorna lini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5"/>
          <p:cNvSpPr/>
          <p:nvPr/>
        </p:nvSpPr>
        <p:spPr>
          <a:xfrm>
            <a:off x="1841400" y="4005360"/>
            <a:ext cx="235080" cy="333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2313000" y="367020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9" name="Picture 7" descr="kkongenitalna dislokacija"/>
          <p:cNvPicPr/>
          <p:nvPr/>
        </p:nvPicPr>
        <p:blipFill>
          <a:blip r:embed="rId3"/>
          <a:stretch/>
        </p:blipFill>
        <p:spPr>
          <a:xfrm>
            <a:off x="3792600" y="2819520"/>
            <a:ext cx="4870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2709720" y="228600"/>
            <a:ext cx="3114720" cy="64260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ccb4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steomijelit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35000" y="1066680"/>
            <a:ext cx="90090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palenje kostne srž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sim medularnog kanala zahvata sve košta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lemente; mlađe životno doba, muški pol (3x);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iologija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staphyloc.aureus (80%); staphyloc.albus;streptococcu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astajanje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hematogeno širenje </a:t>
            </a:r>
            <a:r>
              <a:rPr b="0" i="1" lang="sl-SI" sz="2600" spc="-1" strike="noStrike">
                <a:solidFill>
                  <a:srgbClr val="000000"/>
                </a:solidFill>
                <a:latin typeface="Times New Roman"/>
              </a:rPr>
              <a:t>(metastatski);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direktno iz spolj.sred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600" spc="-1" strike="noStrike">
                <a:solidFill>
                  <a:srgbClr val="000000"/>
                </a:solidFill>
                <a:latin typeface="Times New Roman"/>
              </a:rPr>
              <a:t>(flegmona, povrede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okalizacija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metafize femura, tibije, fibule</a:t>
            </a:r>
            <a:r>
              <a:rPr b="0" lang="sl-SI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 predeo kolena, retko zhvaćen zglob);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olitarna lezij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(multipla 5%);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širenje gnojnog procesa iz k.srži du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medularnog kanala i kroz Haversove kanale do periost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ubperiostaln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apsces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odvajanje periosta, nekr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proliferacija granulaciog tkiva demarkira deo nekrotične kosti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–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ekvestar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osteoskleroza oko nekrotičnog žarišta sa periostalnom reakcijom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2776680" y="228600"/>
            <a:ext cx="345096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133200" y="939960"/>
            <a:ext cx="901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Akutna faza: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septikemija; bez Rtg promena, otok mekih tkiva;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u 3.nedelji Rtg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–mrljasta atrofija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(sitna osteolitična ognjišta) sa Sudek-ovom atrofijom distalno;</a:t>
            </a:r>
            <a:br>
              <a:rPr sz="2200"/>
            </a:b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196920" y="2201760"/>
            <a:ext cx="89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Subakutna faz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periostalna reakcija (amorfne mase) sa atrofijom-hipertofijo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kosti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demarkiranje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157320" y="3192480"/>
            <a:ext cx="90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.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Hronična faz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sekvestar sa svetlom zonom (kostna razgradnja i granul.tkivo)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fistule;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0" y="4113360"/>
            <a:ext cx="9325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.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Faza sanaci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endostalna skleroza – kost zadebljana, neravnih kontura, bez  normalne strukture eburnizacija – ( slika starog drveta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Posebni oblici: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abscessus Brodi ( proks.dijafiza tibije, bez simptoma, ovalno rasvetljenje sa sklerotičnim rubom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519840" y="609300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Komplikacije: arthritis, epyphysiolitis, smetnje u rastu, frakture</a:t>
            </a:r>
            <a:br>
              <a:rPr sz="1800"/>
            </a:b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Dif.dg: osteoartikularna TBC, Ewing-ov 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947880" y="1552680"/>
            <a:ext cx="7045200" cy="477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Cevast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duge kosti (ekstremitet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ratke kosti (kosti ručja, nož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Pljosnat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arlica, r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Nepraviln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osti lica, baze lob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Pršljenska tel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ičmeni stu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79200" y="380880"/>
            <a:ext cx="9015480" cy="70344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Rtg koštanog sistema: anatomska podel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Osteomiel 1"/>
          <p:cNvPicPr/>
          <p:nvPr/>
        </p:nvPicPr>
        <p:blipFill>
          <a:blip r:embed="rId1"/>
          <a:stretch/>
        </p:blipFill>
        <p:spPr>
          <a:xfrm>
            <a:off x="4267080" y="1143000"/>
            <a:ext cx="4681800" cy="54864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Osteomiel 2"/>
          <p:cNvPicPr/>
          <p:nvPr/>
        </p:nvPicPr>
        <p:blipFill>
          <a:blip r:embed="rId2"/>
          <a:stretch/>
        </p:blipFill>
        <p:spPr>
          <a:xfrm>
            <a:off x="406440" y="380880"/>
            <a:ext cx="4470480" cy="467676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4"/>
          <p:cNvSpPr/>
          <p:nvPr/>
        </p:nvSpPr>
        <p:spPr>
          <a:xfrm>
            <a:off x="5973840" y="55483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4335480" y="3962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2235240" y="342900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5351400" y="304920"/>
            <a:ext cx="339732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ChronicOsteomijelitis"/>
          <p:cNvPicPr/>
          <p:nvPr/>
        </p:nvPicPr>
        <p:blipFill>
          <a:blip r:embed="rId1"/>
          <a:stretch/>
        </p:blipFill>
        <p:spPr>
          <a:xfrm>
            <a:off x="5621400" y="1038240"/>
            <a:ext cx="3517920" cy="58197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Osteomiel"/>
          <p:cNvPicPr/>
          <p:nvPr/>
        </p:nvPicPr>
        <p:blipFill>
          <a:blip r:embed="rId2"/>
          <a:stretch/>
        </p:blipFill>
        <p:spPr>
          <a:xfrm>
            <a:off x="3454560" y="1066680"/>
            <a:ext cx="3047760" cy="5553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Osteomiel 4"/>
          <p:cNvPicPr/>
          <p:nvPr/>
        </p:nvPicPr>
        <p:blipFill>
          <a:blip r:embed="rId3"/>
          <a:stretch/>
        </p:blipFill>
        <p:spPr>
          <a:xfrm>
            <a:off x="203040" y="228600"/>
            <a:ext cx="3929400" cy="510552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5"/>
          <p:cNvSpPr/>
          <p:nvPr/>
        </p:nvSpPr>
        <p:spPr>
          <a:xfrm rot="16135200">
            <a:off x="7019280" y="31208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ff"/>
                </a:solidFill>
                <a:latin typeface="Times New Roman"/>
              </a:rPr>
              <a:t>hronični osteomije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3589200" y="5105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utoShape 7"/>
          <p:cNvSpPr/>
          <p:nvPr/>
        </p:nvSpPr>
        <p:spPr>
          <a:xfrm rot="18030600">
            <a:off x="794880" y="4546800"/>
            <a:ext cx="914400" cy="20304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6095880" y="3962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4944960" y="176040"/>
            <a:ext cx="372420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2187720" y="311040"/>
            <a:ext cx="543240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TBC kostiju i zglobo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0" y="1052640"/>
            <a:ext cx="889308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artikularni proces; hematogena diseminacija; mlađi uzra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Lokalizacija: kičmeni stub, zglobovi kuka i kole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inovitis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gnojne mase; nekroza i kolikvaci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pscesi  -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kaver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sa destrukcijom k.tk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rijes i hladni apsces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nedostaje periostal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reakcij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- osteoarticularna TB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1. Atrofija (osteoporoza) epifiza i suphondralne uzur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2. Kružna rasvetljenja u epifizama – kaver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. Razvoj uzura i karijesa; suženje zglobnog prostora, osteoporoz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tok  mekih tkiva; suženje – liza epifiza 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fibrozna ili košt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nkiloz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1971720" y="304920"/>
            <a:ext cx="5864040" cy="642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TBC kostiju i zglobo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271440" y="1916280"/>
            <a:ext cx="8669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– spondylitis specifi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donji Th. i gornji L. pršljenovi, atl.-occipit. z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1. Zahvaćena dva susedna pršlje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neravnine ili centr.osteolize) suženje ineterv. prostor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2. Eksudativni oblik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liza pršlj. tela (smanjen promer – klinast oblik); Produktivne promene - skleroza pršljen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. Hladni apsce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 “bisage”; pomeranje m.psoasa; retrofaringelani otok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if. D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metastaze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nedostaje pršlj.blok, sačuvani interv.prostori, ravan ređe klinasto izmenjen pršljen, sa destrukcijom, blag “gibus”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– spina ventosa –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2"/>
              </a:rPr>
              <a:t>dečiji uzrast; kratke cevaste kosti prstiju; vretenast naduv sa osteolit.ognjištima, izražena periostoza, otok m. tk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1" name="Picture 3" descr="tbc 1"/>
          <p:cNvPicPr/>
          <p:nvPr/>
        </p:nvPicPr>
        <p:blipFill>
          <a:blip r:embed="rId1"/>
          <a:stretch/>
        </p:blipFill>
        <p:spPr>
          <a:xfrm>
            <a:off x="203040" y="990720"/>
            <a:ext cx="4071960" cy="533376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4"/>
          <p:cNvSpPr/>
          <p:nvPr/>
        </p:nvSpPr>
        <p:spPr>
          <a:xfrm>
            <a:off x="474840" y="5335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Times New Roman"/>
              </a:rPr>
              <a:t>Osteoartikularna T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3" name="Picture 5" descr="tbc 1a"/>
          <p:cNvPicPr/>
          <p:nvPr/>
        </p:nvPicPr>
        <p:blipFill>
          <a:blip r:embed="rId2"/>
          <a:stretch/>
        </p:blipFill>
        <p:spPr>
          <a:xfrm>
            <a:off x="4267080" y="1447920"/>
            <a:ext cx="4741920" cy="502920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4944960" y="380880"/>
            <a:ext cx="3048120" cy="7642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TB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1287360" y="3124080"/>
            <a:ext cx="1625760" cy="152640"/>
          </a:xfrm>
          <a:prstGeom prst="rightArrow">
            <a:avLst>
              <a:gd name="adj1" fmla="val 50000"/>
              <a:gd name="adj2" fmla="val 2662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AutoShape 8"/>
          <p:cNvSpPr/>
          <p:nvPr/>
        </p:nvSpPr>
        <p:spPr>
          <a:xfrm rot="12631800">
            <a:off x="6773760" y="5485680"/>
            <a:ext cx="1625760" cy="152280"/>
          </a:xfrm>
          <a:prstGeom prst="rightArrow">
            <a:avLst>
              <a:gd name="adj1" fmla="val 50000"/>
              <a:gd name="adj2" fmla="val 2669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TBC cervik"/>
          <p:cNvPicPr/>
          <p:nvPr/>
        </p:nvPicPr>
        <p:blipFill>
          <a:blip r:embed="rId1"/>
          <a:stretch/>
        </p:blipFill>
        <p:spPr>
          <a:xfrm>
            <a:off x="271440" y="457200"/>
            <a:ext cx="3741840" cy="4829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tbc"/>
          <p:cNvPicPr/>
          <p:nvPr/>
        </p:nvPicPr>
        <p:blipFill>
          <a:blip r:embed="rId2"/>
          <a:stretch/>
        </p:blipFill>
        <p:spPr>
          <a:xfrm>
            <a:off x="3995640" y="228600"/>
            <a:ext cx="4335480" cy="35812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TBC1"/>
          <p:cNvPicPr/>
          <p:nvPr/>
        </p:nvPicPr>
        <p:blipFill>
          <a:blip r:embed="rId3"/>
          <a:stretch/>
        </p:blipFill>
        <p:spPr>
          <a:xfrm>
            <a:off x="2913120" y="3429000"/>
            <a:ext cx="3860640" cy="342900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5"/>
          <p:cNvSpPr/>
          <p:nvPr/>
        </p:nvSpPr>
        <p:spPr>
          <a:xfrm>
            <a:off x="474840" y="1981080"/>
            <a:ext cx="1625400" cy="152640"/>
          </a:xfrm>
          <a:prstGeom prst="rightArrow">
            <a:avLst>
              <a:gd name="adj1" fmla="val 50000"/>
              <a:gd name="adj2" fmla="val 2662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AutoShape 6"/>
          <p:cNvSpPr/>
          <p:nvPr/>
        </p:nvSpPr>
        <p:spPr>
          <a:xfrm rot="11629800">
            <a:off x="6433920" y="5638320"/>
            <a:ext cx="1625400" cy="152640"/>
          </a:xfrm>
          <a:prstGeom prst="rightArrow">
            <a:avLst>
              <a:gd name="adj1" fmla="val 50000"/>
              <a:gd name="adj2" fmla="val 2662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AutoShape 7"/>
          <p:cNvSpPr/>
          <p:nvPr/>
        </p:nvSpPr>
        <p:spPr>
          <a:xfrm rot="11691600">
            <a:off x="6908400" y="1981080"/>
            <a:ext cx="1625760" cy="152640"/>
          </a:xfrm>
          <a:prstGeom prst="rightArrow">
            <a:avLst>
              <a:gd name="adj1" fmla="val 50000"/>
              <a:gd name="adj2" fmla="val 2662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7390080" y="4267080"/>
            <a:ext cx="1331280" cy="764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TB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203040" y="771480"/>
            <a:ext cx="4132440" cy="6197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Hronično progredijentno zapalenje; M; starije ž.dob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rlica, lobanja, kičma – mono-, oligo-, poliostotsk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l.slika zavisi od lokalizacije i opsega prome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 faza (osteoporoza, osteoliza); II faza (hiperostoza, skleroza, periostoza, anarhična građa (mozai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lobanje: sunđerasta kostna građa, zadebljanje diploe i tabule eksterne; “vunena kapa”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2"/>
              </a:rPr>
              <a:t>Klini~ka slika: 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bolovi, patološke frakture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krv - </a:t>
            </a:r>
            <a:r>
              <a:rPr b="1" i="1" lang="sl-SI" sz="1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 al.fosfataz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aget sarkom – 2-1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5" name="Picture 3" descr="prsljen Paget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83360" y="152280"/>
            <a:ext cx="3657600" cy="4473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"/>
          <p:cNvSpPr/>
          <p:nvPr/>
        </p:nvSpPr>
        <p:spPr>
          <a:xfrm>
            <a:off x="4335480" y="1782720"/>
            <a:ext cx="1760400" cy="703800"/>
          </a:xfrm>
          <a:prstGeom prst="rect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Supkortikalna skler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6095880" y="2057400"/>
            <a:ext cx="406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7993080" y="2133720"/>
            <a:ext cx="406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203040" y="152280"/>
            <a:ext cx="562140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. Paget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(ostitis deforma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0" name="Group 8"/>
          <p:cNvGrpSpPr/>
          <p:nvPr/>
        </p:nvGrpSpPr>
        <p:grpSpPr>
          <a:xfrm>
            <a:off x="4572000" y="2932200"/>
            <a:ext cx="4457520" cy="3925800"/>
            <a:chOff x="4572000" y="2932200"/>
            <a:chExt cx="4457520" cy="3925800"/>
          </a:xfrm>
        </p:grpSpPr>
        <p:grpSp>
          <p:nvGrpSpPr>
            <p:cNvPr id="761" name="Group 9"/>
            <p:cNvGrpSpPr/>
            <p:nvPr/>
          </p:nvGrpSpPr>
          <p:grpSpPr>
            <a:xfrm>
              <a:off x="4572000" y="2932200"/>
              <a:ext cx="4457520" cy="3925800"/>
              <a:chOff x="4572000" y="2932200"/>
              <a:chExt cx="4457520" cy="3925800"/>
            </a:xfrm>
          </p:grpSpPr>
          <p:pic>
            <p:nvPicPr>
              <p:cNvPr id="762" name="Picture 10" descr="paget karl"/>
              <p:cNvPicPr/>
              <p:nvPr/>
            </p:nvPicPr>
            <p:blipFill>
              <a:blip r:embed="rId3">
                <a:lum contrast="6000"/>
              </a:blip>
              <a:stretch/>
            </p:blipFill>
            <p:spPr>
              <a:xfrm>
                <a:off x="4572000" y="2932200"/>
                <a:ext cx="4097880" cy="39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Text Box 11"/>
              <p:cNvSpPr/>
              <p:nvPr/>
            </p:nvSpPr>
            <p:spPr>
              <a:xfrm>
                <a:off x="7404120" y="3619440"/>
                <a:ext cx="1625400" cy="1008720"/>
              </a:xfrm>
              <a:prstGeom prst="rect">
                <a:avLst/>
              </a:prstGeom>
              <a:gradFill rotWithShape="0">
                <a:gsLst>
                  <a:gs pos="0">
                    <a:srgbClr val="646b86"/>
                  </a:gs>
                  <a:gs pos="100000">
                    <a:srgbClr val="000066">
                      <a:alpha val="3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Mozaična anarhična građ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4" name="Line 12"/>
            <p:cNvSpPr/>
            <p:nvPr/>
          </p:nvSpPr>
          <p:spPr>
            <a:xfrm flipH="1">
              <a:off x="5824800" y="4626000"/>
              <a:ext cx="270720" cy="45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Paget1"/>
          <p:cNvPicPr/>
          <p:nvPr/>
        </p:nvPicPr>
        <p:blipFill>
          <a:blip r:embed="rId1"/>
          <a:stretch/>
        </p:blipFill>
        <p:spPr>
          <a:xfrm>
            <a:off x="3522600" y="1668600"/>
            <a:ext cx="5342040" cy="5189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Paget"/>
          <p:cNvPicPr/>
          <p:nvPr/>
        </p:nvPicPr>
        <p:blipFill>
          <a:blip r:embed="rId2"/>
          <a:stretch/>
        </p:blipFill>
        <p:spPr>
          <a:xfrm>
            <a:off x="169920" y="304920"/>
            <a:ext cx="4402080" cy="41907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4"/>
          <p:cNvSpPr/>
          <p:nvPr/>
        </p:nvSpPr>
        <p:spPr>
          <a:xfrm rot="20005800">
            <a:off x="2357280" y="58338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5"/>
          <p:cNvSpPr/>
          <p:nvPr/>
        </p:nvSpPr>
        <p:spPr>
          <a:xfrm rot="17716200">
            <a:off x="-79920" y="4237560"/>
            <a:ext cx="2057400" cy="135000"/>
          </a:xfrm>
          <a:prstGeom prst="rightArrow">
            <a:avLst>
              <a:gd name="adj1" fmla="val 50000"/>
              <a:gd name="adj2" fmla="val 381000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AutoShape 6"/>
          <p:cNvSpPr/>
          <p:nvPr/>
        </p:nvSpPr>
        <p:spPr>
          <a:xfrm rot="18045600">
            <a:off x="1815840" y="4388760"/>
            <a:ext cx="2057400" cy="136440"/>
          </a:xfrm>
          <a:prstGeom prst="rightArrow">
            <a:avLst>
              <a:gd name="adj1" fmla="val 50000"/>
              <a:gd name="adj2" fmla="val 376979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5508720" y="612720"/>
            <a:ext cx="294480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M. Pa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338040" y="228600"/>
            <a:ext cx="4810320" cy="642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ccb4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Primarne koštane cis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338040" y="11430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62080" y="1181160"/>
            <a:ext cx="5486400" cy="6349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rimarne koštane ciste – šupljine pokrivene mezotelom, ispunjene sadržaje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iologija: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nejasna - trauma krvnih sudova; distrofični ili metabolički poremećaj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okalizacija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etafize dugih cevastih kostij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tg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jasno, ekcentrično rasvetljenje, bez promene u okolini; lak naduv kost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neurizmatska cist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anjen korteks, ugnut u stranu, trabekulacija u cisti; kičma, karl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cc"/>
                </a:solidFill>
                <a:latin typeface="Times New Roman"/>
              </a:rPr>
              <a:t>Dif.Dg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ffffff"/>
                </a:solidFill>
                <a:latin typeface="Times New Roman"/>
              </a:rPr>
              <a:t>sekundarne ciste, benigni 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4" name="Picture 5" descr="tt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18000" y="434880"/>
            <a:ext cx="3454560" cy="611820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6"/>
          <p:cNvSpPr/>
          <p:nvPr/>
        </p:nvSpPr>
        <p:spPr>
          <a:xfrm rot="17446200">
            <a:off x="8238960" y="2961720"/>
            <a:ext cx="762120" cy="171360"/>
          </a:xfrm>
          <a:prstGeom prst="leftArrow">
            <a:avLst>
              <a:gd name="adj1" fmla="val 50000"/>
              <a:gd name="adj2" fmla="val 1111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220680" y="150840"/>
            <a:ext cx="4808520" cy="6846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SEPTIČNE NEKROZE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nepoznat uzrok (trauma, vaskularna teorija); mlađe ž.doba, kada nisu epifize srasle; epifize,apofize, hrsk.ploče, pljosnate, kratke kost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Perthes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–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As.osteonekroza glave femura; jednostrano; osteoporoza, skleroza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 fragmentacija, deformacija  gl.femura , skraćen izadebljan vrat sa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2"/>
              </a:rPr>
              <a:t>coxa vara;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razvoj deform. artroze; Spontani bolovi, otežan h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Alban-Kochler-ova bolest: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navikular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kost tarz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Friberg-Kochler-ova bolest: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glavica II metatarzalne k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Kienbock-ova bolest: os lunat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Osgood-Schlatter-ova bolest: apofiza tibi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Calveova bolest – vertebra plana necro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Scheurmann – juvenilna kif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Konig – osteochondrosis dissecans (eifiza femura, humer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4" descr="asept"/>
          <p:cNvPicPr/>
          <p:nvPr/>
        </p:nvPicPr>
        <p:blipFill>
          <a:blip r:embed="rId1"/>
          <a:stretch/>
        </p:blipFill>
        <p:spPr>
          <a:xfrm>
            <a:off x="5079960" y="685800"/>
            <a:ext cx="3921120" cy="54864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"/>
          <p:cNvSpPr/>
          <p:nvPr/>
        </p:nvSpPr>
        <p:spPr>
          <a:xfrm>
            <a:off x="7415280" y="1143000"/>
            <a:ext cx="1353960" cy="368280"/>
          </a:xfrm>
          <a:prstGeom prst="rect">
            <a:avLst/>
          </a:prstGeom>
          <a:gradFill rotWithShape="0">
            <a:gsLst>
              <a:gs pos="0">
                <a:srgbClr val="000066">
                  <a:alpha val="42352"/>
                </a:srgbClr>
              </a:gs>
              <a:gs pos="100000">
                <a:srgbClr val="646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c000"/>
                </a:solidFill>
                <a:latin typeface="Times New Roman"/>
              </a:rPr>
              <a:t>M. Pert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250920" y="1295280"/>
            <a:ext cx="8713800" cy="5816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Radi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imetrične kosti – 2 snimka; snimci u 2 projekcije; zglob sa zglobnim okrajk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Radioskop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epozicija u ortoped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Tom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frontalna i transverzal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Makrograf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Radioizotopska scinti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funkc. metoda (fiziologija metabol. P); skrining – onkologija (rana detekcija meta promena - 6 meseci od Rt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CT i MR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procena operabilnosti T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. Angi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ndirektna procena vaskularizac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8.  Rtg dijagnostika zglobova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rtrografija, meniskografija, diskograf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982800" y="95400"/>
            <a:ext cx="73832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Rendgenski pregled koštanog siste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947880" y="228600"/>
            <a:ext cx="724824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c000"/>
                </a:solidFill>
                <a:latin typeface="Times New Roman"/>
              </a:rPr>
              <a:t>Benigni i semimaligni tumori kostij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131760" y="1484280"/>
            <a:ext cx="90122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Često se javljaju, kl.značaj – kompresija na okolno tkivo </a:t>
            </a:r>
            <a:r>
              <a:rPr b="1" i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hirurgija</a:t>
            </a:r>
            <a:r>
              <a:rPr b="1" i="1" lang="sl-SI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2"/>
              </a:rPr>
              <a:t>Nastaju od svih elemenata koštanogtkiva; ne metastaziraju, ne recidiviraj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koji stvaraju kost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m, osteoidni osteom, osteoblastom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koji stvaraju hrskavicu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hondrom*, hondrom*, hondroblastom, hondromiksoidni fib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iz ćelija vezivnog tkiv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klastom*, neosteogeni fib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vaskularnog porekl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hemangiom, limfangiom, glomus tum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nervnog porekl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neurofibrom, ganglioneurinom, neurinom (schwann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periostalnog porekla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periostalni desm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ruge vrste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desmopidni fibrom, hordom*, adamantinom*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68400" y="457200"/>
            <a:ext cx="5011560" cy="2765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OSTEOM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enigni Tu; kosti lobanje i paranazalne šupljine; cevaste k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st sačuvane građe i ne menja obli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jasno ograničeni, spongiozne ili kompaktne građe; u kosti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endostomi)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ili prominiraju van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egzostom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presija na susedne organe.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3" name="Picture 3" descr="osteid osteoma"/>
          <p:cNvPicPr/>
          <p:nvPr/>
        </p:nvPicPr>
        <p:blipFill>
          <a:blip r:embed="rId1"/>
          <a:stretch/>
        </p:blipFill>
        <p:spPr>
          <a:xfrm>
            <a:off x="5148360" y="228600"/>
            <a:ext cx="25923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4"/>
          <p:cNvGrpSpPr/>
          <p:nvPr/>
        </p:nvGrpSpPr>
        <p:grpSpPr>
          <a:xfrm>
            <a:off x="139680" y="3200400"/>
            <a:ext cx="8710200" cy="3581280"/>
            <a:chOff x="139680" y="3200400"/>
            <a:chExt cx="8710200" cy="3581280"/>
          </a:xfrm>
        </p:grpSpPr>
        <p:grpSp>
          <p:nvGrpSpPr>
            <p:cNvPr id="785" name="Group 5"/>
            <p:cNvGrpSpPr/>
            <p:nvPr/>
          </p:nvGrpSpPr>
          <p:grpSpPr>
            <a:xfrm>
              <a:off x="139680" y="3200400"/>
              <a:ext cx="8710200" cy="3581280"/>
              <a:chOff x="139680" y="3200400"/>
              <a:chExt cx="8710200" cy="3581280"/>
            </a:xfrm>
          </p:grpSpPr>
          <p:sp>
            <p:nvSpPr>
              <p:cNvPr id="786" name="Text Box 6"/>
              <p:cNvSpPr/>
              <p:nvPr/>
            </p:nvSpPr>
            <p:spPr>
              <a:xfrm>
                <a:off x="139680" y="3486240"/>
                <a:ext cx="5011920" cy="30704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646b8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ffff00"/>
                    </a:solidFill>
                    <a:latin typeface="Times New Roman"/>
                  </a:rPr>
                  <a:t>HONDROM</a:t>
                </a:r>
                <a:r>
                  <a:rPr b="1" lang="sl-SI" sz="20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sl-SI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Semimaligni Tu; falange, karlica*, femur, humerus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Lobulirana građa hrsk.tkiva, česte Ca</a:t>
                </a:r>
                <a:r>
                  <a:rPr b="1" lang="sl-SI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+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Rtg: jasno ograničeni, negomogene mekotkivne senke, Ca</a:t>
                </a:r>
                <a:r>
                  <a:rPr b="1" lang="sl-SI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+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osteohondrom)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i deformacija kosti; razvoj u kosti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enhondromi)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ili van kosti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ekhondromi)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Kompresija na susedne organe, recidivi.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87" name="Picture 7" descr="enhondroma"/>
              <p:cNvPicPr/>
              <p:nvPr/>
            </p:nvPicPr>
            <p:blipFill>
              <a:blip r:embed="rId2"/>
              <a:stretch/>
            </p:blipFill>
            <p:spPr>
              <a:xfrm>
                <a:off x="6366600" y="3200400"/>
                <a:ext cx="248328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Text Box 8"/>
              <p:cNvSpPr/>
              <p:nvPr/>
            </p:nvSpPr>
            <p:spPr>
              <a:xfrm>
                <a:off x="5079600" y="5029200"/>
                <a:ext cx="142236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1800" spc="-1" strike="noStrike">
                    <a:solidFill>
                      <a:srgbClr val="000000"/>
                    </a:solidFill>
                    <a:latin typeface="Times New Roman"/>
                  </a:rPr>
                  <a:t>Enhondro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1800" spc="-1" strike="noStrike">
                    <a:solidFill>
                      <a:srgbClr val="000000"/>
                    </a:solidFill>
                    <a:latin typeface="Times New Roman"/>
                  </a:rPr>
                  <a:t>kalcifikacij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9" name="Line 9"/>
            <p:cNvSpPr/>
            <p:nvPr/>
          </p:nvSpPr>
          <p:spPr>
            <a:xfrm>
              <a:off x="6366600" y="5410080"/>
              <a:ext cx="5414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0" name="Text Box 10"/>
          <p:cNvSpPr/>
          <p:nvPr/>
        </p:nvSpPr>
        <p:spPr>
          <a:xfrm>
            <a:off x="6516720" y="91440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c000"/>
                </a:solidFill>
                <a:latin typeface="Times New Roman"/>
              </a:rPr>
              <a:t>Endos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Line 11"/>
          <p:cNvSpPr/>
          <p:nvPr/>
        </p:nvSpPr>
        <p:spPr>
          <a:xfrm flipV="1">
            <a:off x="7043760" y="1600200"/>
            <a:ext cx="27144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hemang"/>
          <p:cNvPicPr/>
          <p:nvPr/>
        </p:nvPicPr>
        <p:blipFill>
          <a:blip r:embed="rId1"/>
          <a:stretch/>
        </p:blipFill>
        <p:spPr>
          <a:xfrm>
            <a:off x="135000" y="152280"/>
            <a:ext cx="3184560" cy="398484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3319560" y="457200"/>
            <a:ext cx="5689440" cy="2886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MANGIOM</a:t>
            </a:r>
            <a:r>
              <a:rPr b="1" lang="sl-SI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enigni Tu; kavernozni (kičmeni pršljen) i ređi kapilarni (metafize cevastih kostij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Zahvata Th. ili Lumb. pršljen - ređe dva; sačuvan oblik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aksijalno raspoređena trabekularna spongiozna građa (hipert. atrofija), ređe cistična rasvetljenja; interv.prostor obično sačuvan;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ereze, paraplegije, promene senzibilitet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4"/>
          <p:cNvSpPr/>
          <p:nvPr/>
        </p:nvSpPr>
        <p:spPr>
          <a:xfrm flipV="1">
            <a:off x="2573280" y="1980720"/>
            <a:ext cx="542880" cy="304920"/>
          </a:xfrm>
          <a:prstGeom prst="line">
            <a:avLst/>
          </a:prstGeom>
          <a:ln w="349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2573280" y="2895480"/>
            <a:ext cx="474840" cy="304920"/>
          </a:xfrm>
          <a:prstGeom prst="line">
            <a:avLst/>
          </a:prstGeom>
          <a:ln w="349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6" name="Group 6"/>
          <p:cNvGrpSpPr/>
          <p:nvPr/>
        </p:nvGrpSpPr>
        <p:grpSpPr>
          <a:xfrm>
            <a:off x="135000" y="3429000"/>
            <a:ext cx="8945280" cy="3375360"/>
            <a:chOff x="135000" y="3429000"/>
            <a:chExt cx="8945280" cy="3375360"/>
          </a:xfrm>
        </p:grpSpPr>
        <p:sp>
          <p:nvSpPr>
            <p:cNvPr id="797" name="Text Box 7"/>
            <p:cNvSpPr/>
            <p:nvPr/>
          </p:nvSpPr>
          <p:spPr>
            <a:xfrm>
              <a:off x="3729240" y="3429000"/>
              <a:ext cx="5351040" cy="3375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646b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ff00"/>
                  </a:solidFill>
                  <a:latin typeface="Times New Roman"/>
                </a:rPr>
                <a:t>OSTEKLASTOM</a:t>
              </a:r>
              <a:r>
                <a:rPr b="1" lang="sl-SI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sl-SI" sz="2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semimaligni Tu; distalna epifiza femura i radijusa; proksimalna epifiza tibije i  humerusa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Rastom menja oblik i građu kosti; bez destrukcije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Rtg:  </a:t>
              </a:r>
              <a:r>
                <a:rPr b="1" i="1" lang="sl-SI" sz="2000" spc="-1" strike="noStrike">
                  <a:solidFill>
                    <a:srgbClr val="000000"/>
                  </a:solidFill>
                  <a:latin typeface="Times New Roman"/>
                </a:rPr>
                <a:t>jasno ograničeno, multipla rasvetljenja (mehur sapunice), ciste odeljene lamelama; naduv kosti; bez periostalne reakcije i skleroze;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Bolovi, </a:t>
              </a: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 lokalna t °.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98" name="Group 8"/>
            <p:cNvGrpSpPr/>
            <p:nvPr/>
          </p:nvGrpSpPr>
          <p:grpSpPr>
            <a:xfrm>
              <a:off x="135000" y="3657600"/>
              <a:ext cx="3589560" cy="3048120"/>
              <a:chOff x="135000" y="3657600"/>
              <a:chExt cx="3589560" cy="3048120"/>
            </a:xfrm>
          </p:grpSpPr>
          <p:pic>
            <p:nvPicPr>
              <p:cNvPr id="799" name="Picture 9" descr="osteokl"/>
              <p:cNvPicPr/>
              <p:nvPr/>
            </p:nvPicPr>
            <p:blipFill>
              <a:blip r:embed="rId2"/>
              <a:stretch/>
            </p:blipFill>
            <p:spPr>
              <a:xfrm>
                <a:off x="1760400" y="3657600"/>
                <a:ext cx="1964160" cy="304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Picture 10" descr="osteocl"/>
              <p:cNvPicPr/>
              <p:nvPr/>
            </p:nvPicPr>
            <p:blipFill>
              <a:blip r:embed="rId3"/>
              <a:stretch/>
            </p:blipFill>
            <p:spPr>
              <a:xfrm>
                <a:off x="135000" y="3657600"/>
                <a:ext cx="1715760" cy="304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69920" y="682560"/>
            <a:ext cx="4572000" cy="615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OSTEOSARKOM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eklo i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z matriksa kosti ili od osteoblasta,metafize donjih ekstremiteta (&gt;50%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Times New Roman"/>
              </a:rPr>
              <a:t>Rtg </a:t>
            </a:r>
            <a:r>
              <a:rPr b="1" i="1" lang="sl-SI" sz="1800" spc="-1" strike="noStrike">
                <a:solidFill>
                  <a:srgbClr val="ffffff"/>
                </a:solidFill>
                <a:latin typeface="Times New Roman"/>
              </a:rPr>
              <a:t>– atrofične promene; nalik osteomijelitisu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1.</a:t>
            </a:r>
            <a:r>
              <a:rPr b="0" lang="sl-SI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Osteolitični oblik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atrofija do osteol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potpuni gubita k.građe (tabula rasa); razo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i trnoliko odignut korteks (Codman-ov zna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veliki otok m.tkiva i plaže novostvorene kost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2. Osteosklerotični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kondenzacija-skleroza spongiozne građe (neoformacije različito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oblika); između očuvani delovi kost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periostalne naslage sa odlubljivanje perio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(spikule); manji otok m.tkiv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Bol, bled </a:t>
            </a: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lividan otok fiksiran za ko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SE; </a:t>
            </a: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al.fosfataze; brza evolucija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meta 1 godini (pluća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3" name="Picture 4" descr="osteo Sa"/>
          <p:cNvPicPr/>
          <p:nvPr/>
        </p:nvPicPr>
        <p:blipFill>
          <a:blip r:embed="rId1"/>
          <a:stretch/>
        </p:blipFill>
        <p:spPr>
          <a:xfrm>
            <a:off x="4741920" y="739800"/>
            <a:ext cx="4402080" cy="54687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osteoplastosteosa2"/>
          <p:cNvPicPr/>
          <p:nvPr/>
        </p:nvPicPr>
        <p:blipFill>
          <a:blip r:embed="rId2"/>
          <a:stretch/>
        </p:blipFill>
        <p:spPr>
          <a:xfrm>
            <a:off x="4741920" y="739800"/>
            <a:ext cx="4402080" cy="54687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osteoplastosteosa3"/>
          <p:cNvPicPr/>
          <p:nvPr/>
        </p:nvPicPr>
        <p:blipFill>
          <a:blip r:embed="rId3"/>
          <a:stretch/>
        </p:blipFill>
        <p:spPr>
          <a:xfrm>
            <a:off x="5238720" y="739800"/>
            <a:ext cx="34434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09480"/>
            <a:ext cx="5016600" cy="6706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2"/>
              </a:rPr>
              <a:t>EWING-ov SARKOM</a:t>
            </a:r>
            <a:r>
              <a:rPr b="0" lang="sl-SI" sz="2400" spc="-1" strike="noStrike">
                <a:solidFill>
                  <a:srgbClr val="ffffff"/>
                </a:solidFill>
                <a:latin typeface="Times New Roman2"/>
              </a:rPr>
              <a:t>-</a:t>
            </a:r>
            <a:r>
              <a:rPr b="0" lang="sl-SI" sz="2000" spc="-1" strike="noStrike">
                <a:solidFill>
                  <a:srgbClr val="ffffff"/>
                </a:solidFill>
                <a:latin typeface="Times New Roman2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2"/>
              </a:rPr>
              <a:t>i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z  ćelija kostne srži; ekspanzivan, destruktivan; dečiji uzrast; centralni delovi dijafiza cevastih kostiju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Rt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Atrofična, osteolitična ognjišta, “izmoljčan” izgled kosti, nalik osteomojelitisu; periostalna reakcija ( listanje periosta – “lukovica”, vretenast izgled dijafize kosti ) sve do potpune destrukcije; zglobovi intaktni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Odsustvo endostalne kostne reakcij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( kalcifikovanih ili osifikovanih delova 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Rano metastaziranje u drugim kostima; radiosenzitivan, po zračenju – remineralizacija i osifikacija Tu masa ( “kost u kosti” ) 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Ubrzan kliniški tok, bolovi, znaci zapalenja; limfadenopatija;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8" name="Picture 4" descr="ewing tu"/>
          <p:cNvPicPr/>
          <p:nvPr/>
        </p:nvPicPr>
        <p:blipFill>
          <a:blip r:embed="rId1"/>
          <a:stretch/>
        </p:blipFill>
        <p:spPr>
          <a:xfrm>
            <a:off x="4915080" y="304920"/>
            <a:ext cx="4093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Ewwing Sa"/>
          <p:cNvPicPr/>
          <p:nvPr/>
        </p:nvPicPr>
        <p:blipFill>
          <a:blip r:embed="rId1"/>
          <a:stretch/>
        </p:blipFill>
        <p:spPr>
          <a:xfrm>
            <a:off x="338040" y="1371600"/>
            <a:ext cx="5148360" cy="4952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" descr="Ewing femura"/>
          <p:cNvPicPr/>
          <p:nvPr/>
        </p:nvPicPr>
        <p:blipFill>
          <a:blip r:embed="rId2"/>
          <a:stretch/>
        </p:blipFill>
        <p:spPr>
          <a:xfrm>
            <a:off x="5689440" y="1066680"/>
            <a:ext cx="3251520" cy="533412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4"/>
          <p:cNvSpPr/>
          <p:nvPr/>
        </p:nvSpPr>
        <p:spPr>
          <a:xfrm>
            <a:off x="677880" y="380880"/>
            <a:ext cx="4876920" cy="581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2"/>
              </a:rPr>
              <a:t>EWING - ov SARK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4944960" y="2438280"/>
            <a:ext cx="135000" cy="990720"/>
          </a:xfrm>
          <a:prstGeom prst="downArrow">
            <a:avLst>
              <a:gd name="adj1" fmla="val 50000"/>
              <a:gd name="adj2" fmla="val 183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AutoShape 6"/>
          <p:cNvSpPr/>
          <p:nvPr/>
        </p:nvSpPr>
        <p:spPr>
          <a:xfrm rot="2560200">
            <a:off x="8399160" y="1523880"/>
            <a:ext cx="135000" cy="990720"/>
          </a:xfrm>
          <a:prstGeom prst="downArrow">
            <a:avLst>
              <a:gd name="adj1" fmla="val 50000"/>
              <a:gd name="adj2" fmla="val 183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144360" y="446040"/>
            <a:ext cx="3454560" cy="5862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MULTIPLI MIJELOM -PLASMOCITOM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aligno obolenje kostne moždine, starije ž.doba; brojna Neo osteolitična ognjišta; stvaraju se istovremeno; lobanja, kičma, d.cevaste kosti; PL.: u jednoj kosti, benignij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kružna, jasno ograničena homogena rasvetljenja – multipla osteolitična ognjišta, bez osteosklerotične kostne reakcije (patološke frakture); k.pršljen – osteoliza ili trakast (mrežast) izgled sa klinastom destrukcijo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6" name="Picture 4" descr="Myeloma lobanje"/>
          <p:cNvPicPr/>
          <p:nvPr/>
        </p:nvPicPr>
        <p:blipFill>
          <a:blip r:embed="rId1"/>
          <a:stretch/>
        </p:blipFill>
        <p:spPr>
          <a:xfrm>
            <a:off x="3657600" y="380880"/>
            <a:ext cx="5283360" cy="51786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5"/>
          <p:cNvSpPr/>
          <p:nvPr/>
        </p:nvSpPr>
        <p:spPr>
          <a:xfrm>
            <a:off x="3657600" y="5000760"/>
            <a:ext cx="5486400" cy="2157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if.dg: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osteolitične metastaz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umatski bolovi, anemija, slabost; u mokraći 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Bence-Jonesova belančevi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; u punktatu sternuma plazma ćelije;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SE; hiperglobulinemija i hiperalbuminemija; Komplikacije u bubrezima, plućima ili pojava amiloidoze (Rtg – endostalna i periostna reakcij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multipli mijelom"/>
          <p:cNvPicPr/>
          <p:nvPr/>
        </p:nvPicPr>
        <p:blipFill>
          <a:blip r:embed="rId1"/>
          <a:stretch/>
        </p:blipFill>
        <p:spPr>
          <a:xfrm>
            <a:off x="338040" y="709560"/>
            <a:ext cx="4233960" cy="60958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fract5"/>
          <p:cNvPicPr/>
          <p:nvPr/>
        </p:nvPicPr>
        <p:blipFill>
          <a:blip r:embed="rId2"/>
          <a:stretch/>
        </p:blipFill>
        <p:spPr>
          <a:xfrm>
            <a:off x="4741920" y="709560"/>
            <a:ext cx="4130640" cy="6019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4"/>
          <p:cNvSpPr/>
          <p:nvPr/>
        </p:nvSpPr>
        <p:spPr>
          <a:xfrm>
            <a:off x="1828800" y="0"/>
            <a:ext cx="5767560" cy="8254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MULTIPLI MIJELOM -PLASMOCI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5"/>
          <p:cNvSpPr/>
          <p:nvPr/>
        </p:nvSpPr>
        <p:spPr>
          <a:xfrm rot="10291200">
            <a:off x="5757840" y="4571280"/>
            <a:ext cx="812880" cy="152280"/>
          </a:xfrm>
          <a:prstGeom prst="rightArrow">
            <a:avLst>
              <a:gd name="adj1" fmla="val 50000"/>
              <a:gd name="adj2" fmla="val 1334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AutoShape 6"/>
          <p:cNvSpPr/>
          <p:nvPr/>
        </p:nvSpPr>
        <p:spPr>
          <a:xfrm rot="2115600">
            <a:off x="293760" y="2641680"/>
            <a:ext cx="880920" cy="125280"/>
          </a:xfrm>
          <a:prstGeom prst="rightArrow">
            <a:avLst>
              <a:gd name="adj1" fmla="val 50000"/>
              <a:gd name="adj2" fmla="val 175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55440" y="311040"/>
            <a:ext cx="4470480" cy="6199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ETASTATSKI TUMORI KOSTI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ta u kostima nastaju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er continuitatem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li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hematogen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ćelijski embolus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tem šupljih ve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kavalni tip) – primarni filtar su pluć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 Putem portne ven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primarni filter jetra; drugi su pluća; Tu GIT-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tem plućnih ve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filtri kapilari velikog krvotoka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litične meta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rasvetljenja kosti sa destrukcijom i lizom kosti, bez otoka, sačuvan zglobni prostor; bez endostalne reakcij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): Tu dojke, pluća, prostate, š.žlezde, bubrega;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plastične meta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osteoskleroza – “slonova kost”, kost uveća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), sačuvan oblik prš.tela: Tu prostate, dojk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g: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kcija srži, nalaz kalcemije, &gt; alk. i kis. fosfataze, scintigrafij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5" name="Picture 4" descr="liticke meta dojka 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237280" y="504720"/>
            <a:ext cx="3206520" cy="467676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5"/>
          <p:cNvGrpSpPr/>
          <p:nvPr/>
        </p:nvGrpSpPr>
        <p:grpSpPr>
          <a:xfrm>
            <a:off x="4546440" y="2133720"/>
            <a:ext cx="1963800" cy="761760"/>
            <a:chOff x="4546440" y="2133720"/>
            <a:chExt cx="1963800" cy="761760"/>
          </a:xfrm>
        </p:grpSpPr>
        <p:sp>
          <p:nvSpPr>
            <p:cNvPr id="827" name="Text Box 6"/>
            <p:cNvSpPr/>
            <p:nvPr/>
          </p:nvSpPr>
          <p:spPr>
            <a:xfrm>
              <a:off x="4546440" y="2133720"/>
              <a:ext cx="1963800" cy="703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ff"/>
                  </a:solidFill>
                  <a:latin typeface="Times New Roman"/>
                </a:rPr>
                <a:t>Osteolitičnae me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7"/>
            <p:cNvSpPr/>
            <p:nvPr/>
          </p:nvSpPr>
          <p:spPr>
            <a:xfrm>
              <a:off x="6036120" y="2590920"/>
              <a:ext cx="47376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9" name="Group 8"/>
          <p:cNvGrpSpPr/>
          <p:nvPr/>
        </p:nvGrpSpPr>
        <p:grpSpPr>
          <a:xfrm>
            <a:off x="4546440" y="504720"/>
            <a:ext cx="4402080" cy="5245560"/>
            <a:chOff x="4546440" y="504720"/>
            <a:chExt cx="4402080" cy="5245560"/>
          </a:xfrm>
        </p:grpSpPr>
        <p:pic>
          <p:nvPicPr>
            <p:cNvPr id="830" name="Picture 9" descr="meta prsljen dojka"/>
            <p:cNvPicPr/>
            <p:nvPr/>
          </p:nvPicPr>
          <p:blipFill>
            <a:blip r:embed="rId2"/>
            <a:stretch/>
          </p:blipFill>
          <p:spPr>
            <a:xfrm>
              <a:off x="4546440" y="504720"/>
              <a:ext cx="2689200" cy="47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Line 10"/>
            <p:cNvSpPr/>
            <p:nvPr/>
          </p:nvSpPr>
          <p:spPr>
            <a:xfrm>
              <a:off x="6220080" y="3042720"/>
              <a:ext cx="348480" cy="528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32" name="Picture 11" descr="sklerotske meta"/>
            <p:cNvPicPr/>
            <p:nvPr/>
          </p:nvPicPr>
          <p:blipFill>
            <a:blip r:embed="rId3"/>
            <a:stretch/>
          </p:blipFill>
          <p:spPr>
            <a:xfrm>
              <a:off x="6778080" y="2084400"/>
              <a:ext cx="2170440" cy="31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12"/>
            <p:cNvSpPr/>
            <p:nvPr/>
          </p:nvSpPr>
          <p:spPr>
            <a:xfrm>
              <a:off x="5731920" y="5351400"/>
              <a:ext cx="2371320" cy="398880"/>
            </a:xfrm>
            <a:prstGeom prst="rect">
              <a:avLst/>
            </a:prstGeom>
            <a:gradFill rotWithShape="0">
              <a:gsLst>
                <a:gs pos="0">
                  <a:srgbClr val="000009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00"/>
                  </a:solidFill>
                  <a:latin typeface="Times New Roman"/>
                </a:rPr>
                <a:t>Osteoplastične me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Line 13"/>
            <p:cNvSpPr/>
            <p:nvPr/>
          </p:nvSpPr>
          <p:spPr>
            <a:xfrm>
              <a:off x="8103240" y="3042720"/>
              <a:ext cx="488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o1"/>
          <p:cNvPicPr/>
          <p:nvPr/>
        </p:nvPicPr>
        <p:blipFill>
          <a:blip r:embed="rId1"/>
          <a:stretch/>
        </p:blipFill>
        <p:spPr>
          <a:xfrm>
            <a:off x="203040" y="457200"/>
            <a:ext cx="2167200" cy="56386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" descr="o2"/>
          <p:cNvPicPr/>
          <p:nvPr/>
        </p:nvPicPr>
        <p:blipFill>
          <a:blip r:embed="rId2"/>
          <a:stretch/>
        </p:blipFill>
        <p:spPr>
          <a:xfrm>
            <a:off x="2540160" y="533520"/>
            <a:ext cx="2031840" cy="55623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" descr="spondilitis et listesis"/>
          <p:cNvPicPr/>
          <p:nvPr/>
        </p:nvPicPr>
        <p:blipFill>
          <a:blip r:embed="rId3"/>
          <a:stretch/>
        </p:blipFill>
        <p:spPr>
          <a:xfrm>
            <a:off x="4808520" y="1523880"/>
            <a:ext cx="4064040" cy="419112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5"/>
          <p:cNvSpPr/>
          <p:nvPr/>
        </p:nvSpPr>
        <p:spPr>
          <a:xfrm>
            <a:off x="4178520" y="223920"/>
            <a:ext cx="559548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2"/>
              </a:rPr>
              <a:t>Patologija ki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2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 New Roman2"/>
              </a:rPr>
              <a:t>menog stu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5084640" y="583236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iloza sa spondilolistez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1700280" y="6172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AutoShape 8"/>
          <p:cNvSpPr/>
          <p:nvPr/>
        </p:nvSpPr>
        <p:spPr>
          <a:xfrm>
            <a:off x="4572000" y="3048120"/>
            <a:ext cx="744480" cy="380880"/>
          </a:xfrm>
          <a:prstGeom prst="rightArrow">
            <a:avLst>
              <a:gd name="adj1" fmla="val 50000"/>
              <a:gd name="adj2" fmla="val 4886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271440" y="957240"/>
            <a:ext cx="34545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stna supstanca (tela osse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rteks (kortikalis)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površni sloj, uzdužne lam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mpakt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tvrđi sloj, lamele oko sistema Haverzovih kanala (dijafize d. cevastih kostiju, tabule pljosnatih kostij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pongioz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pljosnate i kratke kosti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fize dugih kostiju (sunđerast izgl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 Perios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uočljiv u patološkim stanjima: zapalenje, trauma, Tu; periostalne naslage (&gt; osteoblastna aktivnost)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1. lamele, 2. nepravilna, jasno ograničena amorfna masa, 3. spiku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Kostna sr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u medularnom kanalu i spongioz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822240" y="228600"/>
            <a:ext cx="2100240" cy="520560"/>
          </a:xfrm>
          <a:prstGeom prst="rect">
            <a:avLst/>
          </a:prstGeom>
          <a:gradFill rotWithShape="0">
            <a:gsLst>
              <a:gs pos="0">
                <a:srgbClr val="120025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Građa k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Picture 4" descr="Osteomiel 4"/>
          <p:cNvPicPr/>
          <p:nvPr/>
        </p:nvPicPr>
        <p:blipFill>
          <a:blip r:embed="rId1"/>
          <a:stretch/>
        </p:blipFill>
        <p:spPr>
          <a:xfrm>
            <a:off x="3726000" y="628560"/>
            <a:ext cx="5141880" cy="6012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5378400" y="1268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ija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 flipH="1" flipV="1">
            <a:off x="5241960" y="1824120"/>
            <a:ext cx="65088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7"/>
          <p:cNvSpPr/>
          <p:nvPr/>
        </p:nvSpPr>
        <p:spPr>
          <a:xfrm flipH="1" flipV="1">
            <a:off x="6394320" y="1824120"/>
            <a:ext cx="649440" cy="1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5554800" y="326880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eta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 flipH="1" flipV="1">
            <a:off x="5351400" y="3747600"/>
            <a:ext cx="64944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 flipV="1">
            <a:off x="6502320" y="3747600"/>
            <a:ext cx="650880" cy="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5621400" y="52689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epi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4538520" y="4869000"/>
            <a:ext cx="11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spongi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4363920" y="1108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Kompak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4402080" y="2724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Kortikal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10360" y="228600"/>
            <a:ext cx="1463400" cy="45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eri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16"/>
          <p:cNvSpPr/>
          <p:nvPr/>
        </p:nvSpPr>
        <p:spPr>
          <a:xfrm flipH="1">
            <a:off x="5418000" y="738360"/>
            <a:ext cx="650880" cy="268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7"/>
          <p:cNvSpPr/>
          <p:nvPr/>
        </p:nvSpPr>
        <p:spPr>
          <a:xfrm>
            <a:off x="6040440" y="736560"/>
            <a:ext cx="569880" cy="270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8"/>
          <p:cNvSpPr/>
          <p:nvPr/>
        </p:nvSpPr>
        <p:spPr>
          <a:xfrm>
            <a:off x="4538520" y="1508040"/>
            <a:ext cx="27000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19"/>
          <p:cNvSpPr/>
          <p:nvPr/>
        </p:nvSpPr>
        <p:spPr>
          <a:xfrm>
            <a:off x="4944960" y="1508040"/>
            <a:ext cx="270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20"/>
          <p:cNvSpPr/>
          <p:nvPr/>
        </p:nvSpPr>
        <p:spPr>
          <a:xfrm>
            <a:off x="4470480" y="3108240"/>
            <a:ext cx="27144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5214960" y="3108240"/>
            <a:ext cx="2714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1000" y="228600"/>
            <a:ext cx="6570720" cy="8380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mene u kostnoj gra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đ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 I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350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1. ATROFIJA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–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oremećaj u stvaranju osteoidnog tkiva i sekundarnog deponovanja  Ca 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2"/>
              </a:rPr>
              <a:t>++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, P (demineralizacija ili dekalcinacija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-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Generalizovana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metabolički, hormonski poremećaji, hemoragije, senilna atrof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-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 Lokalizovan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infektivni agens u blizini patološkog  procesa – TBC zgloba, inaktivnost, imobilizac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poroza: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&lt; broj i funkcionalnih osteoblasta; metafize, spongioza staklasta; kompakta i kortikalis istanjeni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malacija: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osteoidno tkivo se ne prožima krečnim solima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liza: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produbljivanje procesa atrofije – razaranje kostne građe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defekti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Ivične promene – 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uzure, karijes;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Centralne promene - 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ciste, kaverne (sol.meta plazmocitom, absces, TBC osteom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2"/>
              </a:rPr>
              <a:t>ijelitis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, osteoklastom, ehinokokus, skleroderm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975280" cy="83844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Times New Roman"/>
              </a:rPr>
              <a:t>Promene u kostnoj gra</a:t>
            </a:r>
            <a:r>
              <a:rPr b="1" lang="sl-SI" sz="3900" spc="-1" strike="noStrike">
                <a:solidFill>
                  <a:srgbClr val="ffff00"/>
                </a:solidFill>
                <a:latin typeface="Times New Roman"/>
              </a:rPr>
              <a:t>đ</a:t>
            </a:r>
            <a:r>
              <a:rPr b="1" lang="en-US" sz="39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900" spc="-1" strike="noStrike">
                <a:solidFill>
                  <a:srgbClr val="ffff00"/>
                </a:solidFill>
                <a:latin typeface="Times New Roman"/>
              </a:rPr>
              <a:t> II</a:t>
            </a:r>
            <a:endParaRPr b="0" lang="en-US" sz="3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74840" y="1066680"/>
            <a:ext cx="82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2. HIPERTROFIJ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-</a:t>
            </a:r>
            <a:r>
              <a:rPr b="1" lang="sl-SI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&gt; stvaranje kostnog tkiva ili sporija resorpcija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Osteoskler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spongioskleroza: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koštanog tkiva u kompakti, korteksu i spongiozi (gubitak gra|e – eburnizacija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Endost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: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koštanog tkiva na unutrašnjem delu kompakte, sužen medularnni kanal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eriostoza: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koštanog tkiva u predelu periosta (trauma, upala, neoplazme, avitaminoza); Oblik – spikule, amorfna masa, lisnata forma; Raspored – politopne, generalizovane; osteofiti i egzostoze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3. DISTROFIJA (pahiostoza)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–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koštano tkivo zamenjeno novim (fiboznim) tkivom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–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M. Paget, M. Recklinghausen)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romena oblika i građe koštanog tkiva; koštana struktura se ne raspoznaje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4. NEKROZ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– Izumiranje kosti sa stvaranjem sekvestr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(okolo svetla zona granulacionog tkiva), sa ili bez taloženja Ca</a:t>
            </a:r>
            <a:r>
              <a:rPr b="1" lang="sl-SI" sz="2200" spc="-1" strike="noStrike" baseline="30000">
                <a:solidFill>
                  <a:srgbClr val="000000"/>
                </a:solidFill>
                <a:latin typeface="Times New Roman2"/>
              </a:rPr>
              <a:t>++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soli.</a:t>
            </a:r>
            <a:r>
              <a:rPr b="1" i="1" lang="sl-SI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fract5"/>
          <p:cNvPicPr/>
          <p:nvPr/>
        </p:nvPicPr>
        <p:blipFill>
          <a:blip r:embed="rId1"/>
          <a:stretch/>
        </p:blipFill>
        <p:spPr>
          <a:xfrm>
            <a:off x="2162160" y="152280"/>
            <a:ext cx="2373480" cy="60199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fract56"/>
          <p:cNvPicPr/>
          <p:nvPr/>
        </p:nvPicPr>
        <p:blipFill>
          <a:blip r:embed="rId2"/>
          <a:stretch/>
        </p:blipFill>
        <p:spPr>
          <a:xfrm>
            <a:off x="4648320" y="152280"/>
            <a:ext cx="2260440" cy="6019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o"/>
          <p:cNvPicPr/>
          <p:nvPr/>
        </p:nvPicPr>
        <p:blipFill>
          <a:blip r:embed="rId3"/>
          <a:stretch/>
        </p:blipFill>
        <p:spPr>
          <a:xfrm>
            <a:off x="203040" y="152280"/>
            <a:ext cx="1884600" cy="60199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5"/>
          <p:cNvSpPr/>
          <p:nvPr/>
        </p:nvSpPr>
        <p:spPr>
          <a:xfrm>
            <a:off x="0" y="6180120"/>
            <a:ext cx="21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hiperparatireoid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osteodistrof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761480" y="6180120"/>
            <a:ext cx="3262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Rahit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alimentarna osteodistrif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4572000" y="6161040"/>
            <a:ext cx="2540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Osteopor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stara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2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ka osteomalac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7286760" y="62769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2"/>
              </a:rPr>
              <a:t>spondil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Group 9"/>
          <p:cNvGrpSpPr/>
          <p:nvPr/>
        </p:nvGrpSpPr>
        <p:grpSpPr>
          <a:xfrm>
            <a:off x="6502320" y="152280"/>
            <a:ext cx="2405880" cy="6096240"/>
            <a:chOff x="6502320" y="152280"/>
            <a:chExt cx="2405880" cy="6096240"/>
          </a:xfrm>
        </p:grpSpPr>
        <p:pic>
          <p:nvPicPr>
            <p:cNvPr id="651" name="Picture 10" descr="o"/>
            <p:cNvPicPr/>
            <p:nvPr/>
          </p:nvPicPr>
          <p:blipFill>
            <a:blip r:embed="rId4"/>
            <a:stretch/>
          </p:blipFill>
          <p:spPr>
            <a:xfrm>
              <a:off x="6976440" y="152280"/>
              <a:ext cx="18957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11" descr="o1"/>
            <p:cNvPicPr/>
            <p:nvPr/>
          </p:nvPicPr>
          <p:blipFill>
            <a:blip r:embed="rId5"/>
            <a:stretch/>
          </p:blipFill>
          <p:spPr>
            <a:xfrm>
              <a:off x="6976440" y="3429000"/>
              <a:ext cx="18957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AutoShape 12"/>
            <p:cNvSpPr/>
            <p:nvPr/>
          </p:nvSpPr>
          <p:spPr>
            <a:xfrm rot="14342400">
              <a:off x="8359920" y="1985040"/>
              <a:ext cx="685800" cy="67680"/>
            </a:xfrm>
            <a:prstGeom prst="rightArrow">
              <a:avLst>
                <a:gd name="adj1" fmla="val 50000"/>
                <a:gd name="adj2" fmla="val 2533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AutoShape 13"/>
            <p:cNvSpPr/>
            <p:nvPr/>
          </p:nvSpPr>
          <p:spPr>
            <a:xfrm>
              <a:off x="6502320" y="1371600"/>
              <a:ext cx="609480" cy="76320"/>
            </a:xfrm>
            <a:prstGeom prst="rightArrow">
              <a:avLst>
                <a:gd name="adj1" fmla="val 50000"/>
                <a:gd name="adj2" fmla="val 1996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AutoShape 14"/>
            <p:cNvSpPr/>
            <p:nvPr/>
          </p:nvSpPr>
          <p:spPr>
            <a:xfrm>
              <a:off x="6705360" y="4267080"/>
              <a:ext cx="609480" cy="76320"/>
            </a:xfrm>
            <a:prstGeom prst="rightArrow">
              <a:avLst>
                <a:gd name="adj1" fmla="val 50000"/>
                <a:gd name="adj2" fmla="val 1996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57360" y="228600"/>
            <a:ext cx="6842160" cy="8380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Promene </a:t>
            </a:r>
            <a:r>
              <a:rPr b="1" lang="sl-SI" sz="3500" spc="-1" strike="noStrike">
                <a:solidFill>
                  <a:srgbClr val="ffff00"/>
                </a:solidFill>
                <a:latin typeface="Times New Roman"/>
              </a:rPr>
              <a:t>oblika i veličine kostiju</a:t>
            </a:r>
            <a:endParaRPr b="0" lang="en-US" sz="3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71440" y="1447920"/>
            <a:ext cx="866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1. AGENEZ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edostaje zametak kosti;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2. APLAZIJA (anostoza)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ormalno zametnuta kost se ne razvija ili se razvija deo kosti (duge kosti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3. HIPERPLAZIJA -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dela ili cele kosti (i mekih tkiva); falange – Mb. Addisoni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4. HIPOPLAZIJA -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kostiju (skraćenje, istanjenost, deformacije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5. HIPER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pojačan rast hrskavice i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  <a:ea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ili koštanog tkiva; kosti neproporcionalno i izdužene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6. HIP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hrskavice i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  <a:ea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ili k.tkiva; kosti nežne, slabe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građe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7. AN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osteolitičko razaranje normalno razvijene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kosti (Tu, 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m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eta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8. ED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aduv kosti; spongioza metafiza i epifiza (ciste, fibrozna displazija, osteoklastom);</a:t>
            </a:r>
            <a:r>
              <a:rPr b="0" lang="sl-SI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1965240" y="380880"/>
            <a:ext cx="5092920" cy="6248520"/>
            <a:chOff x="1965240" y="380880"/>
            <a:chExt cx="5092920" cy="6248520"/>
          </a:xfrm>
        </p:grpSpPr>
        <p:pic>
          <p:nvPicPr>
            <p:cNvPr id="660" name="Picture 3" descr="6x"/>
            <p:cNvPicPr/>
            <p:nvPr/>
          </p:nvPicPr>
          <p:blipFill>
            <a:blip r:embed="rId1"/>
            <a:stretch/>
          </p:blipFill>
          <p:spPr>
            <a:xfrm>
              <a:off x="1965240" y="380880"/>
              <a:ext cx="509292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4"/>
            <p:cNvSpPr/>
            <p:nvPr/>
          </p:nvSpPr>
          <p:spPr>
            <a:xfrm>
              <a:off x="2079360" y="5778360"/>
              <a:ext cx="1933200" cy="642600"/>
            </a:xfrm>
            <a:prstGeom prst="rect">
              <a:avLst/>
            </a:prstGeom>
            <a:gradFill rotWithShape="0">
              <a:gsLst>
                <a:gs pos="0">
                  <a:srgbClr val="646b86">
                    <a:alpha val="58039"/>
                  </a:srgbClr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inistoz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2" name="Group 5"/>
          <p:cNvGrpSpPr/>
          <p:nvPr/>
        </p:nvGrpSpPr>
        <p:grpSpPr>
          <a:xfrm>
            <a:off x="1965240" y="380880"/>
            <a:ext cx="5087880" cy="6248160"/>
            <a:chOff x="1965240" y="380880"/>
            <a:chExt cx="5087880" cy="6248160"/>
          </a:xfrm>
        </p:grpSpPr>
        <p:pic>
          <p:nvPicPr>
            <p:cNvPr id="663" name="Picture 6" descr="2x"/>
            <p:cNvPicPr/>
            <p:nvPr/>
          </p:nvPicPr>
          <p:blipFill>
            <a:blip r:embed="rId2"/>
            <a:stretch/>
          </p:blipFill>
          <p:spPr>
            <a:xfrm>
              <a:off x="1965240" y="380880"/>
              <a:ext cx="508788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7"/>
            <p:cNvSpPr/>
            <p:nvPr/>
          </p:nvSpPr>
          <p:spPr>
            <a:xfrm>
              <a:off x="3068280" y="5777640"/>
              <a:ext cx="2511360" cy="581400"/>
            </a:xfrm>
            <a:prstGeom prst="rect">
              <a:avLst/>
            </a:prstGeom>
            <a:gradFill rotWithShape="0">
              <a:gsLst>
                <a:gs pos="0">
                  <a:srgbClr val="646b86">
                    <a:alpha val="54117"/>
                  </a:srgbClr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Times New Roman"/>
                </a:rPr>
                <a:t>Vratno rebro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7:31:13Z</dcterms:created>
  <dc:creator>Korisnik</dc:creator>
  <dc:description/>
  <dc:language>en-US</dc:language>
  <cp:lastModifiedBy>Milan Mijailovic</cp:lastModifiedBy>
  <dcterms:modified xsi:type="dcterms:W3CDTF">2024-08-29T08:44:54Z</dcterms:modified>
  <cp:revision>15</cp:revision>
  <dc:subject/>
  <dc:title>Slide 1</dc:title>
</cp:coreProperties>
</file>