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5.jpeg" ContentType="image/jpeg"/>
  <Override PartName="/ppt/media/image56.png" ContentType="image/png"/>
  <Override PartName="/ppt/media/image58.jpeg" ContentType="image/jpe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DEB-E4FB-4A55-935B-6DEFD085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87E-A5D5-4D7E-B9E3-3416EC44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F5062-EF2E-4E59-BEDA-E5D25171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C9E8F-43E0-44DE-8498-D0E48B8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BDBB8-B113-4895-A590-908585D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62171-8CC8-4F1F-8271-2B4E6D14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AFB1D-53FC-414B-9CCC-CE2D500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94D6B-0E2D-4932-8176-60E2AAF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790E3-71F2-4074-992C-F819743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8A7CD-4BB5-4F77-9829-1FCAEB35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FB4B0-B67D-4136-A44D-353C3B11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348AB-B0A1-4E40-895A-AF307B2F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CC0-30ED-43A8-BB74-E569DC1C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E278C-AE4C-4DCC-A23E-2AB1D26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A301B-C13C-4977-BC66-F9026AC1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677D0-1544-41F7-A4AA-F5CD330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5ED63-83D3-4FEB-A5BF-B430B0EF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CAB31-1D92-4636-98ED-29F71A98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2CADE-30F9-4F73-9CB2-E9C474F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F9F5A-945B-4C21-AD0C-E0CA0F7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EB7C8-C2F6-4112-8E9B-0BD2652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D6DE9-1A7B-4A7F-A091-76E0FBB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7CBD2-3E88-450F-A5DE-A27E16E4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2EC-9812-4F2D-B2AC-7D333212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757E8-75C4-4490-8CAD-1425B144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7425F-5134-4F7B-8D2C-7F3B0480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32E52-6BBB-4D56-8C50-A834767C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72FC0-0BA2-4C4A-A1DD-FB3D2A1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4EF63-DFF2-4EAE-9DD8-B3EA8262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FCDCF-2F79-47A7-A41D-CC978B8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3C8F6-6439-4222-88DA-D144868F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1E72C-EA09-401B-BE44-F6E08425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B23DC-ECCD-4795-AD97-46A83786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86A6-3C6D-4D93-95F4-65EDF8F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1F8B-018B-4F39-8351-AD101EB8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B44C-F4D2-444E-8B9C-770AC67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A4BA-BE93-47FB-8D22-A2FA70F9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A4D5C-B481-4258-863D-263970D9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398F8-ED8F-43EF-AF25-3E586BFA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D0C94-02FF-4591-8DDF-33FB506A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6F893-822D-4713-9E36-42BDEA6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BE07B-47A9-4ABD-96B3-4D15E8B4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DAA43-466B-4BB9-97AA-4B81317D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EC1CF-49BE-47A9-AAA4-B59777E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B6AC1-2404-45FF-A35D-6B59EF5B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164F-2FFC-41DA-A586-303DC3B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98129-0679-4182-93DA-FE47094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52829-7953-417B-AD8C-58217AD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3D92F-B19E-4734-9DCA-62A10381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E503C-BA1D-463B-ABE0-850C5F00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EBBF9-7FC1-4EBD-A1FE-704EEBF2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E6DA-F887-45CA-B4E4-B4394CE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DE52-22AA-4BE4-B6CC-EE52C51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037-6F93-45E8-82C4-448921FF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F32-686D-4B1B-B64E-2C09F71C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FBE-C64F-4ED2-A1D4-4297B05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D53-00CE-46B5-ADC3-6FFFD33B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991E-86BA-4977-8DD5-9FC344F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3FA-261B-4ACB-8882-98B10A1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8EC-DE05-4884-82A5-F3EF839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D97-D95A-46E3-8F9C-CC9A89D5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8417-B1E4-43AA-9F38-01496FA8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352D-9C56-42F7-81F2-9A4F8C6A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9CC3-069B-4BBD-8359-CD31FB5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A5BC-62D6-48EC-8E10-2D77D678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C235-14E2-477F-9C43-C38A468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5D13-95D9-4B12-8A5F-4E96B7AE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97A-D746-4971-9814-604E44D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EB42-CCA7-4BBF-8EF0-CFB0C15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7737-2644-4AE4-9307-76AE5E2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B783-BD1C-4314-9CA1-6F3BE5C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A6DC-2C58-4737-B2B3-72DC36D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B3E6-148A-4FFD-A718-24B5A6C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D095-D05E-42C4-B239-E0C4083C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8CA3-043C-4034-B801-C8639028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D7C3-0D7F-4114-BD00-153245DD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56FCA-C4C7-4149-A3E5-3FD9CE99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9790-6193-4177-93DF-704E9BF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DF6-43F8-4A78-B632-A21B3B67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8B76-0062-4F0C-8B3A-480A39F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EC2B-4A4C-410C-9C86-4B550C37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A11C2-B935-4626-AC0A-8897365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31C91-FFCB-4840-BACD-BCC4C78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116C-A634-468E-8FDE-EADDCC4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C22A-DBF5-41AB-B93B-29D4CD3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C591-B56E-44D6-8214-40BD4DCC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043E-1E3C-4DF9-9121-1E7CFEA3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B960-08C4-4669-9D17-1F752414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5B7E-58D0-4D1D-AAAF-BBA560F1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FA5-08EA-495F-9349-8B5748DD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C508-16CE-46F3-AB8A-64EBBC90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4060-8A5D-4A65-9087-5D70A374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FD2A-1903-4DC6-A9EC-B2AD98BF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CFB6B-3A3C-41F5-9133-527C6AD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297A-E58C-44B1-99A6-8B55D5E7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5452-876D-4087-AAF5-8C47639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04FF8-6E6F-4A7B-8B45-97E07D7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AEF4-7269-4BC2-9133-1357B5A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3D9E-66B4-4C40-B0A4-CD2B8316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E42A-655D-4E91-850A-FFC454B6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A23-EEB4-4847-9B50-C6E8FE8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C874-8BE7-47D9-B16F-66A02DE4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801C-76E8-4F95-B0D6-C70881E9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00EB-1184-443B-9A74-C8A4D7C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DF8F-9AEF-4F40-A185-8D814418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CCF7-A728-4657-B6A7-0330AFD4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CC94-10DE-436A-9119-3925BC1D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4907-B142-4330-82D9-DD421EE3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22705-8CA6-4F24-9CDE-54D1DE1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673A-9FC7-4AE3-8B7D-74A20DA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DC5E-C4CC-479B-A4FA-B47E020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2FC-D92D-469F-AA71-0C0D0A0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64FD-9271-42D2-BCFF-76D8A419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86F7-18C5-4610-9DE2-69676E68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02A5D-5E65-4720-922B-273A123A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E5CC-CA72-4B27-94B0-F653485E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8A6FA-C850-4335-AAD5-81C814BE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3A4B-3F29-415C-B960-4062D8F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2A6A-E026-4DE0-BD3C-5E2E2DE7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1B54-FB46-4EF9-BE51-B72E11B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2FF4B-A9C4-4C80-A941-2BC0E90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8F18-4865-415B-A49C-66A9B75C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26B-595F-4C31-B453-6426E68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4F861-C2A7-400C-A720-ED81A89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79D0-B6E0-4157-A302-B1CF0D1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637A-C053-48C5-A380-88B6B72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5223C-2DC6-4A05-883B-43D3FAA2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87C6-045D-4300-B87C-916D08E3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4E49-4871-42AA-87FD-FF869A1C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74EC-51BD-4ED0-ADF6-082B8B54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B772-BC0F-4EFE-9FB4-02CDB99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9720-9290-4405-A503-B76FD24D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1FD5-F0B6-488D-88AE-5A620FFF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B28-27CB-4FD1-827F-92810D0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F4A2-E57D-495D-9EB5-3890ADBD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5B80-F27A-43AB-9F4C-18F7CBF4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2E62-B5AE-4906-9560-B700173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13277-E42C-4FB8-9247-801AF9F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5D25-F4EB-41EB-85FB-2232B9A8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8F53-D4FD-45A9-804F-E8B77D3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26739-722C-4FC9-8E2B-9A7500D6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46025-2E7F-41AE-AD9E-FCEED97E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0319E-55FC-403C-B35B-011DBCD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D0D8D-E53F-444B-9762-BD27968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B50-49B9-43CA-9329-600A926BDE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2CFA-2D3E-4F31-B189-3569125CE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D19-A255-48F4-8D55-1F78B2EAC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BF3F-2C3C-485D-B187-F09D6F99C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AD7-AB9D-4FE5-B9A8-1A68AAC75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62D-CF7C-4F7F-8407-B7AE860DF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A45-46D3-4032-BB9B-8A3A2B6AA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279D-7FB9-41CB-A7C1-37B11C412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AF0-ED32-4A0B-AF3B-201AAB7CD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E6BD-C2DD-4E2A-93C5-4F0DFB73E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A3A1-3322-4B16-92B1-056905A953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C6E0-6525-4463-A1FD-912352A85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450720" y="382680"/>
            <a:ext cx="78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Monotype Corsiva"/>
              </a:rPr>
              <a:t>RADIOLOGIJA   KOŠTANOG  SISTE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Monotype Corsiva"/>
              </a:rPr>
              <a:t>Prof dr Milan Mijailovi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2195640" y="1944720"/>
            <a:ext cx="4744800" cy="4356000"/>
            <a:chOff x="2195640" y="1944720"/>
            <a:chExt cx="4744800" cy="4356000"/>
          </a:xfrm>
        </p:grpSpPr>
        <p:sp>
          <p:nvSpPr>
            <p:cNvPr id="608" name="Rectangle 4"/>
            <p:cNvSpPr/>
            <p:nvPr/>
          </p:nvSpPr>
          <p:spPr>
            <a:xfrm>
              <a:off x="2195640" y="1944720"/>
              <a:ext cx="4744800" cy="4356000"/>
            </a:xfrm>
            <a:prstGeom prst="rect">
              <a:avLst/>
            </a:prstGeom>
            <a:gradFill rotWithShape="0">
              <a:gsLst>
                <a:gs pos="0">
                  <a:srgbClr val="646b86"/>
                </a:gs>
                <a:gs pos="100000">
                  <a:srgbClr val="ff0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4856400" y="5947920"/>
              <a:ext cx="150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10" name="Picture 6" descr="tbc 1"/>
            <p:cNvPicPr/>
            <p:nvPr/>
          </p:nvPicPr>
          <p:blipFill>
            <a:blip r:embed="rId1"/>
            <a:stretch/>
          </p:blipFill>
          <p:spPr>
            <a:xfrm>
              <a:off x="2775240" y="2352600"/>
              <a:ext cx="347904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06440" y="914040"/>
            <a:ext cx="83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Vrsta traum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oblik i vrsta frakture (savijanje, kompresija, torzija, trakcija, ablacija, penetracija, frakture zbog premora (marš fraktur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umatsk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otvorene, zatvorene) i patološke frakture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otpu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oprečne, uzdužne, spiralne, zvezdaste;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Nepotpune: fisura – nepotpun prekid kontinuiteta, infrakcija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Georgia"/>
              </a:rPr>
              <a:t>Rtg znaci prelo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Frakturna pukoti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svetlina koja zahvata celu širinu kosti ili jedan deo – fisura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rekid kontinuiteta kost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(“frakturna stepenica”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Dislokacija fragmenat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d longitudinem (promena du`ine kosti), ad latus (pomeranje u stranu), ad axin (angulacija); fractura impacta (utiskivanje frakturnih delova), subperiostalna fraktura ( “oblik zelene grane”, mlađi, šatorasto izbočenje, sačuvan periost ), multifragmentarne, kompresivne (pršljensko telo),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alu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fraktura u sanaciji; vibrozna veza fragmenata – pseudoarthrosis, bez kalusa – neoarthrosis, osteoporoza (M. Sudeck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2228760" y="0"/>
            <a:ext cx="4979880" cy="861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Fraktura kostiju</a:t>
            </a:r>
            <a:r>
              <a:rPr b="0" i="1" lang="sl-SI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i="1" lang="sl-SI" sz="2800" spc="-1" strike="noStrike">
                <a:solidFill>
                  <a:srgbClr val="ffff00"/>
                </a:solidFill>
                <a:latin typeface="Times New Roman"/>
              </a:rPr>
              <a:t>deli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ffff00"/>
                </a:solidFill>
                <a:latin typeface="Times New Roman"/>
              </a:rPr>
              <a:t>ični il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ff00"/>
                </a:solidFill>
                <a:latin typeface="Times New Roman"/>
              </a:rPr>
              <a:t>potpuni prekid kontinuiteta k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fract1"/>
          <p:cNvPicPr/>
          <p:nvPr/>
        </p:nvPicPr>
        <p:blipFill>
          <a:blip r:embed="rId1"/>
          <a:stretch/>
        </p:blipFill>
        <p:spPr>
          <a:xfrm>
            <a:off x="338040" y="304920"/>
            <a:ext cx="1965600" cy="6248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" descr="fract2"/>
          <p:cNvPicPr/>
          <p:nvPr/>
        </p:nvPicPr>
        <p:blipFill>
          <a:blip r:embed="rId2"/>
          <a:stretch/>
        </p:blipFill>
        <p:spPr>
          <a:xfrm>
            <a:off x="2438280" y="258840"/>
            <a:ext cx="2133720" cy="62942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fract3"/>
          <p:cNvPicPr/>
          <p:nvPr/>
        </p:nvPicPr>
        <p:blipFill>
          <a:blip r:embed="rId3"/>
          <a:stretch/>
        </p:blipFill>
        <p:spPr>
          <a:xfrm>
            <a:off x="4773600" y="228600"/>
            <a:ext cx="3919680" cy="35053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fract5"/>
          <p:cNvPicPr/>
          <p:nvPr/>
        </p:nvPicPr>
        <p:blipFill>
          <a:blip r:embed="rId4"/>
          <a:stretch/>
        </p:blipFill>
        <p:spPr>
          <a:xfrm>
            <a:off x="5011560" y="3411360"/>
            <a:ext cx="2989440" cy="3446640"/>
          </a:xfrm>
          <a:prstGeom prst="rect">
            <a:avLst/>
          </a:prstGeom>
          <a:ln w="0">
            <a:noFill/>
          </a:ln>
        </p:spPr>
      </p:pic>
      <p:sp>
        <p:nvSpPr>
          <p:cNvPr id="672" name="AutoShape 6"/>
          <p:cNvSpPr/>
          <p:nvPr/>
        </p:nvSpPr>
        <p:spPr>
          <a:xfrm>
            <a:off x="4572000" y="5029200"/>
            <a:ext cx="744480" cy="76320"/>
          </a:xfrm>
          <a:prstGeom prst="rightArrow">
            <a:avLst>
              <a:gd name="adj1" fmla="val 50000"/>
              <a:gd name="adj2" fmla="val 24386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5729400" y="441360"/>
            <a:ext cx="2838240" cy="703800"/>
          </a:xfrm>
          <a:prstGeom prst="rect">
            <a:avLst/>
          </a:prstGeom>
          <a:gradFill rotWithShape="0">
            <a:gsLst>
              <a:gs pos="0">
                <a:srgbClr val="612e22"/>
              </a:gs>
              <a:gs pos="100000">
                <a:srgbClr val="d16349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ura radii loco tip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AutoShape 8"/>
          <p:cNvSpPr/>
          <p:nvPr/>
        </p:nvSpPr>
        <p:spPr>
          <a:xfrm>
            <a:off x="4944960" y="1600200"/>
            <a:ext cx="744480" cy="76320"/>
          </a:xfrm>
          <a:prstGeom prst="rightArrow">
            <a:avLst>
              <a:gd name="adj1" fmla="val 50000"/>
              <a:gd name="adj2" fmla="val 24386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AutoShape 9"/>
          <p:cNvSpPr/>
          <p:nvPr/>
        </p:nvSpPr>
        <p:spPr>
          <a:xfrm rot="8405400">
            <a:off x="1401480" y="1694880"/>
            <a:ext cx="744480" cy="75960"/>
          </a:xfrm>
          <a:prstGeom prst="rightArrow">
            <a:avLst>
              <a:gd name="adj1" fmla="val 50000"/>
              <a:gd name="adj2" fmla="val 2450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AutoShape 10"/>
          <p:cNvSpPr/>
          <p:nvPr/>
        </p:nvSpPr>
        <p:spPr>
          <a:xfrm rot="9600600">
            <a:off x="8001000" y="1447200"/>
            <a:ext cx="744480" cy="75960"/>
          </a:xfrm>
          <a:prstGeom prst="rightArrow">
            <a:avLst>
              <a:gd name="adj1" fmla="val 50000"/>
              <a:gd name="adj2" fmla="val 2450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AutoShape 11"/>
          <p:cNvSpPr/>
          <p:nvPr/>
        </p:nvSpPr>
        <p:spPr>
          <a:xfrm rot="2298000">
            <a:off x="3130200" y="1816200"/>
            <a:ext cx="744480" cy="75960"/>
          </a:xfrm>
          <a:prstGeom prst="rightArrow">
            <a:avLst>
              <a:gd name="adj1" fmla="val 50000"/>
              <a:gd name="adj2" fmla="val 2450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fract4"/>
          <p:cNvPicPr/>
          <p:nvPr/>
        </p:nvPicPr>
        <p:blipFill>
          <a:blip r:embed="rId1"/>
          <a:stretch/>
        </p:blipFill>
        <p:spPr>
          <a:xfrm>
            <a:off x="271440" y="304920"/>
            <a:ext cx="2573280" cy="60195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426960" y="62485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seudoartro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0" name="Picture 4" descr="fract5"/>
          <p:cNvPicPr/>
          <p:nvPr/>
        </p:nvPicPr>
        <p:blipFill>
          <a:blip r:embed="rId2"/>
          <a:stretch/>
        </p:blipFill>
        <p:spPr>
          <a:xfrm>
            <a:off x="2979720" y="152280"/>
            <a:ext cx="3929040" cy="4496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fract5"/>
          <p:cNvPicPr/>
          <p:nvPr/>
        </p:nvPicPr>
        <p:blipFill>
          <a:blip r:embed="rId3"/>
          <a:stretch/>
        </p:blipFill>
        <p:spPr>
          <a:xfrm>
            <a:off x="2979720" y="4191120"/>
            <a:ext cx="3929040" cy="25146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fract5"/>
          <p:cNvPicPr/>
          <p:nvPr/>
        </p:nvPicPr>
        <p:blipFill>
          <a:blip r:embed="rId4"/>
          <a:stretch/>
        </p:blipFill>
        <p:spPr>
          <a:xfrm>
            <a:off x="7043760" y="228600"/>
            <a:ext cx="1762200" cy="29718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fract5"/>
          <p:cNvPicPr/>
          <p:nvPr/>
        </p:nvPicPr>
        <p:blipFill>
          <a:blip r:embed="rId5"/>
          <a:stretch/>
        </p:blipFill>
        <p:spPr>
          <a:xfrm>
            <a:off x="7246800" y="3429000"/>
            <a:ext cx="1625760" cy="320040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8"/>
          <p:cNvSpPr/>
          <p:nvPr/>
        </p:nvSpPr>
        <p:spPr>
          <a:xfrm>
            <a:off x="1150920" y="4038480"/>
            <a:ext cx="746280" cy="76320"/>
          </a:xfrm>
          <a:prstGeom prst="rightArrow">
            <a:avLst>
              <a:gd name="adj1" fmla="val 50000"/>
              <a:gd name="adj2" fmla="val 2444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AutoShape 9"/>
          <p:cNvSpPr/>
          <p:nvPr/>
        </p:nvSpPr>
        <p:spPr>
          <a:xfrm rot="18843000">
            <a:off x="4898160" y="2975760"/>
            <a:ext cx="838080" cy="68040"/>
          </a:xfrm>
          <a:prstGeom prst="rightArrow">
            <a:avLst>
              <a:gd name="adj1" fmla="val 50000"/>
              <a:gd name="adj2" fmla="val 30793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4468320" y="423072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ma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2"/>
              </a:rPr>
              <a:t>š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“  frak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7174800" y="3859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Fractura vertebra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7715160" y="752400"/>
            <a:ext cx="12960" cy="54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13"/>
          <p:cNvSpPr/>
          <p:nvPr/>
        </p:nvSpPr>
        <p:spPr>
          <a:xfrm flipH="1">
            <a:off x="7905600" y="3740040"/>
            <a:ext cx="14400" cy="54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AutoShape 14"/>
          <p:cNvSpPr/>
          <p:nvPr/>
        </p:nvSpPr>
        <p:spPr>
          <a:xfrm flipV="1" rot="4359000">
            <a:off x="4756680" y="5376240"/>
            <a:ext cx="642960" cy="66240"/>
          </a:xfrm>
          <a:prstGeom prst="rightArrow">
            <a:avLst>
              <a:gd name="adj1" fmla="val 50000"/>
              <a:gd name="adj2" fmla="val 2426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7"/>
          <p:cNvPicPr/>
          <p:nvPr/>
        </p:nvPicPr>
        <p:blipFill>
          <a:blip r:embed="rId1"/>
          <a:stretch/>
        </p:blipFill>
        <p:spPr>
          <a:xfrm>
            <a:off x="619200" y="228600"/>
            <a:ext cx="7908840" cy="66294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"/>
          <p:cNvSpPr/>
          <p:nvPr/>
        </p:nvSpPr>
        <p:spPr>
          <a:xfrm>
            <a:off x="855720" y="228600"/>
            <a:ext cx="8061480" cy="5205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2"/>
              </a:rPr>
              <a:t>Mogu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2"/>
              </a:rPr>
              <a:t>ć</a:t>
            </a:r>
            <a:r>
              <a:rPr b="1" lang="en-US" sz="2800" spc="-1" strike="noStrike">
                <a:solidFill>
                  <a:srgbClr val="ffff00"/>
                </a:solidFill>
                <a:latin typeface="Times New Roman2"/>
              </a:rPr>
              <a:t>e komplikacije nakon frakture kosti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506680" y="228240"/>
            <a:ext cx="358920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ffff00"/>
                </a:solidFill>
                <a:latin typeface="Times New Roman"/>
              </a:rPr>
              <a:t>Povrede zglobova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71080" y="980640"/>
            <a:ext cx="85345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Kontuzija:</a:t>
            </a:r>
            <a:r>
              <a:rPr b="0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direktno dejstvo sile; nagnječenje periartikularnoih mekih tkiva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Uganuće (dystorsia):</a:t>
            </a:r>
            <a:r>
              <a:rPr b="0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indirektno dejstvo sile; oštećenje zlobne vreće i ligamenata, intaktni hrskavica i koštani okrajak; Rtg: deponovanje Ca</a:t>
            </a:r>
            <a:r>
              <a:rPr b="1" lang="sl-SI" sz="23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(hematom, zgl.čahura, ligament); avulzione fraktur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Iščašenja (luxatio):</a:t>
            </a:r>
            <a:r>
              <a:rPr b="0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poremećaj odnosa zgl. površina zgl.okrajaka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Luxatio completa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– potpuni gubitak kontakta dve zgl.površine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Luxatio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incompleta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– delimično izmeštanje zgl.površina, mestimično dodirivanje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300" spc="-1" strike="noStrike">
                <a:solidFill>
                  <a:srgbClr val="000000"/>
                </a:solidFill>
                <a:latin typeface="Times New Roman"/>
              </a:rPr>
              <a:t>Luxatio habitualis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</a:rPr>
              <a:t> – ponavljanje luksacije bez traum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566640" y="484200"/>
            <a:ext cx="80503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Luksacije zgloba kuk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(prednje, zadnje, medijalne, lateral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raumatske luksacij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retko);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atološke luksacij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destr. i inflamat.bo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ongenitalna lukasacija (displazija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sporen razvoj i osifikacija, slabost ligamen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tg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prekid cervikoobturatorne linije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Menar-Šentonova linija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poj medijalne linije vrata femura i medijalni rub </a:t>
            </a:r>
            <a:r>
              <a:rPr b="1" i="1" lang="sl-SI" sz="2400" spc="-1" strike="noStrike">
                <a:solidFill>
                  <a:srgbClr val="ffffff"/>
                </a:solidFill>
                <a:latin typeface="Times New Roman"/>
              </a:rPr>
              <a:t>obturat. foramen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5167800" y="15876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Iščašenja (luxatio)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8" name="Group 3"/>
          <p:cNvGrpSpPr/>
          <p:nvPr/>
        </p:nvGrpSpPr>
        <p:grpSpPr>
          <a:xfrm>
            <a:off x="4741920" y="1143000"/>
            <a:ext cx="4145040" cy="5181480"/>
            <a:chOff x="4741920" y="1143000"/>
            <a:chExt cx="4145040" cy="5181480"/>
          </a:xfrm>
        </p:grpSpPr>
        <p:pic>
          <p:nvPicPr>
            <p:cNvPr id="699" name="Picture 4" descr="3"/>
            <p:cNvPicPr/>
            <p:nvPr/>
          </p:nvPicPr>
          <p:blipFill>
            <a:blip r:embed="rId1"/>
            <a:stretch/>
          </p:blipFill>
          <p:spPr>
            <a:xfrm>
              <a:off x="4741920" y="1143000"/>
              <a:ext cx="414504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AutoShape 5"/>
            <p:cNvSpPr/>
            <p:nvPr/>
          </p:nvSpPr>
          <p:spPr>
            <a:xfrm rot="6438600">
              <a:off x="6849360" y="2260440"/>
              <a:ext cx="1676520" cy="203040"/>
            </a:xfrm>
            <a:prstGeom prst="rightArrow">
              <a:avLst>
                <a:gd name="adj1" fmla="val 50000"/>
                <a:gd name="adj2" fmla="val 20642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1" name="Group 6"/>
          <p:cNvGrpSpPr/>
          <p:nvPr/>
        </p:nvGrpSpPr>
        <p:grpSpPr>
          <a:xfrm>
            <a:off x="304920" y="762120"/>
            <a:ext cx="4620960" cy="5715000"/>
            <a:chOff x="304920" y="762120"/>
            <a:chExt cx="4620960" cy="5715000"/>
          </a:xfrm>
        </p:grpSpPr>
        <p:pic>
          <p:nvPicPr>
            <p:cNvPr id="702" name="Picture 7" descr="2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426708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8"/>
            <p:cNvSpPr/>
            <p:nvPr/>
          </p:nvSpPr>
          <p:spPr>
            <a:xfrm rot="8381400">
              <a:off x="3538800" y="2471040"/>
              <a:ext cx="1489680" cy="228600"/>
            </a:xfrm>
            <a:prstGeom prst="rightArrow">
              <a:avLst>
                <a:gd name="adj1" fmla="val 50000"/>
                <a:gd name="adj2" fmla="val 16291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2"/>
          <p:cNvPicPr/>
          <p:nvPr/>
        </p:nvPicPr>
        <p:blipFill>
          <a:blip r:embed="rId1"/>
          <a:stretch/>
        </p:blipFill>
        <p:spPr>
          <a:xfrm>
            <a:off x="4470480" y="152280"/>
            <a:ext cx="3419280" cy="2573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1"/>
          <p:cNvPicPr/>
          <p:nvPr/>
        </p:nvPicPr>
        <p:blipFill>
          <a:blip r:embed="rId2"/>
          <a:stretch/>
        </p:blipFill>
        <p:spPr>
          <a:xfrm>
            <a:off x="271440" y="1219320"/>
            <a:ext cx="3454560" cy="48765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4"/>
          <p:cNvSpPr/>
          <p:nvPr/>
        </p:nvSpPr>
        <p:spPr>
          <a:xfrm>
            <a:off x="135000" y="4572000"/>
            <a:ext cx="406404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Menar-Šentonova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cerviko - obturatorna lini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5"/>
          <p:cNvSpPr/>
          <p:nvPr/>
        </p:nvSpPr>
        <p:spPr>
          <a:xfrm>
            <a:off x="1841400" y="4005360"/>
            <a:ext cx="235080" cy="333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Line 6"/>
          <p:cNvSpPr/>
          <p:nvPr/>
        </p:nvSpPr>
        <p:spPr>
          <a:xfrm>
            <a:off x="2313000" y="367020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9" name="Picture 7" descr="kkongenitalna dislokacija"/>
          <p:cNvPicPr/>
          <p:nvPr/>
        </p:nvPicPr>
        <p:blipFill>
          <a:blip r:embed="rId3"/>
          <a:stretch/>
        </p:blipFill>
        <p:spPr>
          <a:xfrm>
            <a:off x="3792600" y="2819520"/>
            <a:ext cx="4870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2709720" y="228600"/>
            <a:ext cx="3114720" cy="64260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ccb4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steomijelit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35000" y="1066680"/>
            <a:ext cx="90090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Zapalenje kostne srž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sim medularnog kanala zahvata sve košta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lemente; mlađe životno doba, muški pol (3x);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iologija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staphyloc.aureus (80%); staphyloc.albus;streptococcu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astajanje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hematogeno širenje </a:t>
            </a:r>
            <a:r>
              <a:rPr b="0" i="1" lang="sl-SI" sz="2600" spc="-1" strike="noStrike">
                <a:solidFill>
                  <a:srgbClr val="000000"/>
                </a:solidFill>
                <a:latin typeface="Times New Roman"/>
              </a:rPr>
              <a:t>(metastatski);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direktno iz spolj.sred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600" spc="-1" strike="noStrike">
                <a:solidFill>
                  <a:srgbClr val="000000"/>
                </a:solidFill>
                <a:latin typeface="Times New Roman"/>
              </a:rPr>
              <a:t>(flegmona, povrede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okalizacija: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metafize femura, tibije, fibule</a:t>
            </a:r>
            <a:r>
              <a:rPr b="0" lang="sl-SI" sz="2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 predeo kolena, retko zhvaćen zglob);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solitarna lezij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(multipla 5%);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širenje gnojnog procesa iz k.srži du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medularnog kanala i kroz Haversove kanale do periost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subperiostaln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apsces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odvajanje periosta, nekroz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proliferacija granulaciog tkiva demarkira deo nekrotične kosti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–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2"/>
              </a:rPr>
              <a:t>sekvestar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;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osteoskleroza oko nekrotičnog žarišta sa periostalnom reakcijom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2776680" y="228600"/>
            <a:ext cx="3450960" cy="70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steomijelit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133200" y="939960"/>
            <a:ext cx="901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Akutna faza: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septikemija; bez Rtg promena, otok mekih tkiva;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u 3.nedelji Rtg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–mrljasta atrofija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(sitna osteolitična ognjišta) sa Sudek-ovom atrofijom distalno;</a:t>
            </a:r>
            <a:br>
              <a:rPr sz="2200"/>
            </a:b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196920" y="2201760"/>
            <a:ext cx="89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Subakutna faz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periostalna reakcija (amorfne mase) sa atrofijom-hipertofijom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kosti </a:t>
            </a:r>
            <a:r>
              <a:rPr b="1" i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demarkiranje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157320" y="3192480"/>
            <a:ext cx="90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.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Hronična faz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sekvestar sa svetlom zonom (kostna razgradnja i granul.tkivo) </a:t>
            </a:r>
            <a:r>
              <a:rPr b="1" i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fistule;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0" y="4113360"/>
            <a:ext cx="9325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l-SI" sz="2200" spc="-1" strike="noStrike">
                <a:solidFill>
                  <a:srgbClr val="00ffff"/>
                </a:solidFill>
                <a:latin typeface="Times New Roman"/>
              </a:rPr>
              <a:t>.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Faza sanaci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endostalna skleroza – kost zadebljana, neravnih kontura, bez  normalne strukture eburnizacija – ( slika starog drveta 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</a:rPr>
              <a:t>Posebni oblici: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"/>
              </a:rPr>
              <a:t> abscessus Brodi ( proks.dijafiza tibije, bez simptoma, ovalno rasvetljenje sa sklerotičnim rubom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519840" y="609300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Komplikacije: arthritis, epyphysiolitis, smetnje u rastu, frakture</a:t>
            </a:r>
            <a:br>
              <a:rPr sz="1800"/>
            </a:b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Dif.dg: osteoartikularna TBC, Ewing-ov 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947880" y="1552680"/>
            <a:ext cx="7045200" cy="477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Cevaste kosti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duge kosti (ekstremitet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ratke kosti (kosti ručja, nož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Pljosnate kosti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arlica, r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Nepravilne kosti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osti lica, baze lob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Pršljenska tel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kičmeni stu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79200" y="380880"/>
            <a:ext cx="9015480" cy="70344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Rtg koštanog sistema: anatomska podel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Osteomiel 1"/>
          <p:cNvPicPr/>
          <p:nvPr/>
        </p:nvPicPr>
        <p:blipFill>
          <a:blip r:embed="rId1"/>
          <a:stretch/>
        </p:blipFill>
        <p:spPr>
          <a:xfrm>
            <a:off x="4267080" y="1143000"/>
            <a:ext cx="4681800" cy="54864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Osteomiel 2"/>
          <p:cNvPicPr/>
          <p:nvPr/>
        </p:nvPicPr>
        <p:blipFill>
          <a:blip r:embed="rId2"/>
          <a:stretch/>
        </p:blipFill>
        <p:spPr>
          <a:xfrm>
            <a:off x="406440" y="380880"/>
            <a:ext cx="4470480" cy="467676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4"/>
          <p:cNvSpPr/>
          <p:nvPr/>
        </p:nvSpPr>
        <p:spPr>
          <a:xfrm>
            <a:off x="5973840" y="55483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4335480" y="39625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2235240" y="342900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5351400" y="304920"/>
            <a:ext cx="3397320" cy="70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steomijelit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ChronicOsteomijelitis"/>
          <p:cNvPicPr/>
          <p:nvPr/>
        </p:nvPicPr>
        <p:blipFill>
          <a:blip r:embed="rId1"/>
          <a:stretch/>
        </p:blipFill>
        <p:spPr>
          <a:xfrm>
            <a:off x="5621400" y="1038240"/>
            <a:ext cx="3517920" cy="58197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" descr="Osteomiel"/>
          <p:cNvPicPr/>
          <p:nvPr/>
        </p:nvPicPr>
        <p:blipFill>
          <a:blip r:embed="rId2"/>
          <a:stretch/>
        </p:blipFill>
        <p:spPr>
          <a:xfrm>
            <a:off x="3454560" y="1066680"/>
            <a:ext cx="3047760" cy="5553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Osteomiel 4"/>
          <p:cNvPicPr/>
          <p:nvPr/>
        </p:nvPicPr>
        <p:blipFill>
          <a:blip r:embed="rId3"/>
          <a:stretch/>
        </p:blipFill>
        <p:spPr>
          <a:xfrm>
            <a:off x="203040" y="228600"/>
            <a:ext cx="3929400" cy="510552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5"/>
          <p:cNvSpPr/>
          <p:nvPr/>
        </p:nvSpPr>
        <p:spPr>
          <a:xfrm rot="16135200">
            <a:off x="7019280" y="31208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ff"/>
                </a:solidFill>
                <a:latin typeface="Times New Roman"/>
              </a:rPr>
              <a:t>hronični osteomijel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AutoShape 6"/>
          <p:cNvSpPr/>
          <p:nvPr/>
        </p:nvSpPr>
        <p:spPr>
          <a:xfrm>
            <a:off x="3589200" y="51055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AutoShape 7"/>
          <p:cNvSpPr/>
          <p:nvPr/>
        </p:nvSpPr>
        <p:spPr>
          <a:xfrm rot="18030600">
            <a:off x="794880" y="4546800"/>
            <a:ext cx="914400" cy="20304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AutoShape 8"/>
          <p:cNvSpPr/>
          <p:nvPr/>
        </p:nvSpPr>
        <p:spPr>
          <a:xfrm>
            <a:off x="6095880" y="3962520"/>
            <a:ext cx="812880" cy="228600"/>
          </a:xfrm>
          <a:prstGeom prst="rightArrow">
            <a:avLst>
              <a:gd name="adj1" fmla="val 50000"/>
              <a:gd name="adj2" fmla="val 88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4944960" y="176040"/>
            <a:ext cx="3724200" cy="70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steomijelit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2187720" y="311040"/>
            <a:ext cx="543240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TBC kostiju i zglobo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0" y="1052640"/>
            <a:ext cx="889308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artikularni proces; hematogena diseminacija; mlađi uzra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Lokalizacija: kičmeni stub, zglobovi kuka i kole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inovitis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gnojne mase; nekroza i kolikvaci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pscesi  -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kaver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sa destrukcijom k.tk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arijes i hladni apsces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nedostaje periostal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reakcij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- osteoarticularna TB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1. Atrofija (osteoporoza) epifiza i suphondralne uzur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2. Kružna rasvetljenja u epifizama – kaver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. Razvoj uzura i karijesa; suženje zglobnog prostora, osteoporoz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tok  mekih tkiva; suženje – liza epifiza </a:t>
            </a:r>
            <a:r>
              <a:rPr b="1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fibrozna ili košt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nkiloz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1971720" y="304920"/>
            <a:ext cx="5864040" cy="642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TBC kostiju i zglobov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271440" y="1916280"/>
            <a:ext cx="86695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– spondylitis specifi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donji Th. i gornji L. pršljenovi, atl.-occipit. z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1. Zahvaćena dva susedna pršlje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neravnine ili centr.osteolize) suženje ineterv. prostor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2. Eksudativni oblik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liza pršlj. tela (smanjen promer – klinast oblik); Produktivne promene - skleroza pršljen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. Hladni apsce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 “bisage”; pomeranje m.psoasa; retrofaringelani otok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Dif. Dg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metastaze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nedostaje pršlj.blok, sačuvani interv.prostori, ravan ređe klinasto izmenjen pršljen, sa destrukcijom, blag “gibus”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– spina ventosa –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2"/>
              </a:rPr>
              <a:t>dečiji uzrast; kratke cevaste kosti prstiju; vretenast naduv sa osteolit.ognjištima, izražena periostoza, otok m. tk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1" name="Picture 3" descr="tbc 1"/>
          <p:cNvPicPr/>
          <p:nvPr/>
        </p:nvPicPr>
        <p:blipFill>
          <a:blip r:embed="rId1"/>
          <a:stretch/>
        </p:blipFill>
        <p:spPr>
          <a:xfrm>
            <a:off x="203040" y="990720"/>
            <a:ext cx="4071960" cy="533376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4"/>
          <p:cNvSpPr/>
          <p:nvPr/>
        </p:nvSpPr>
        <p:spPr>
          <a:xfrm>
            <a:off x="474840" y="5335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Times New Roman"/>
              </a:rPr>
              <a:t>Osteoartikularna T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3" name="Picture 5" descr="tbc 1a"/>
          <p:cNvPicPr/>
          <p:nvPr/>
        </p:nvPicPr>
        <p:blipFill>
          <a:blip r:embed="rId2"/>
          <a:stretch/>
        </p:blipFill>
        <p:spPr>
          <a:xfrm>
            <a:off x="4267080" y="1447920"/>
            <a:ext cx="4741920" cy="502920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4944960" y="380880"/>
            <a:ext cx="3048120" cy="7642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TB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1287360" y="3124080"/>
            <a:ext cx="1625760" cy="152640"/>
          </a:xfrm>
          <a:prstGeom prst="rightArrow">
            <a:avLst>
              <a:gd name="adj1" fmla="val 50000"/>
              <a:gd name="adj2" fmla="val 2662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AutoShape 8"/>
          <p:cNvSpPr/>
          <p:nvPr/>
        </p:nvSpPr>
        <p:spPr>
          <a:xfrm rot="12631800">
            <a:off x="6773760" y="5485680"/>
            <a:ext cx="1625760" cy="152280"/>
          </a:xfrm>
          <a:prstGeom prst="rightArrow">
            <a:avLst>
              <a:gd name="adj1" fmla="val 50000"/>
              <a:gd name="adj2" fmla="val 2669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TBC cervik"/>
          <p:cNvPicPr/>
          <p:nvPr/>
        </p:nvPicPr>
        <p:blipFill>
          <a:blip r:embed="rId1"/>
          <a:stretch/>
        </p:blipFill>
        <p:spPr>
          <a:xfrm>
            <a:off x="271440" y="457200"/>
            <a:ext cx="3741840" cy="4829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" descr="tbc"/>
          <p:cNvPicPr/>
          <p:nvPr/>
        </p:nvPicPr>
        <p:blipFill>
          <a:blip r:embed="rId2"/>
          <a:stretch/>
        </p:blipFill>
        <p:spPr>
          <a:xfrm>
            <a:off x="3995640" y="228600"/>
            <a:ext cx="4335480" cy="35812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TBC1"/>
          <p:cNvPicPr/>
          <p:nvPr/>
        </p:nvPicPr>
        <p:blipFill>
          <a:blip r:embed="rId3"/>
          <a:stretch/>
        </p:blipFill>
        <p:spPr>
          <a:xfrm>
            <a:off x="2913120" y="3429000"/>
            <a:ext cx="3860640" cy="342900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5"/>
          <p:cNvSpPr/>
          <p:nvPr/>
        </p:nvSpPr>
        <p:spPr>
          <a:xfrm>
            <a:off x="474840" y="1981080"/>
            <a:ext cx="1625400" cy="152640"/>
          </a:xfrm>
          <a:prstGeom prst="rightArrow">
            <a:avLst>
              <a:gd name="adj1" fmla="val 50000"/>
              <a:gd name="adj2" fmla="val 2662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AutoShape 6"/>
          <p:cNvSpPr/>
          <p:nvPr/>
        </p:nvSpPr>
        <p:spPr>
          <a:xfrm rot="11629800">
            <a:off x="6433920" y="5638320"/>
            <a:ext cx="1625400" cy="152640"/>
          </a:xfrm>
          <a:prstGeom prst="rightArrow">
            <a:avLst>
              <a:gd name="adj1" fmla="val 50000"/>
              <a:gd name="adj2" fmla="val 2662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AutoShape 7"/>
          <p:cNvSpPr/>
          <p:nvPr/>
        </p:nvSpPr>
        <p:spPr>
          <a:xfrm rot="11691600">
            <a:off x="6908400" y="1981080"/>
            <a:ext cx="1625760" cy="152640"/>
          </a:xfrm>
          <a:prstGeom prst="rightArrow">
            <a:avLst>
              <a:gd name="adj1" fmla="val 50000"/>
              <a:gd name="adj2" fmla="val 2662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7390080" y="4267080"/>
            <a:ext cx="1331280" cy="764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TB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203040" y="771480"/>
            <a:ext cx="4132440" cy="6197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Hronično progredijentno zapalenje; M; starije ž.dob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arlica, lobanja, kičma – mono-, oligo-, poliostotsk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l.slika zavisi od lokalizacije i opsega promen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 faza (osteoporoza, osteoliza); II faza (hiperostoza, skleroza, periostoza, anarhična građa (mozai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 lobanje: sunđerasta kostna građa, zadebljanje diploe i tabule eksterne; “vunena kapa”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2"/>
              </a:rPr>
              <a:t>Klini~ka slika: </a:t>
            </a: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bolovi, patološke frakture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krv - </a:t>
            </a:r>
            <a:r>
              <a:rPr b="1" i="1" lang="sl-SI" sz="19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sl-SI" sz="1900" spc="-1" strike="noStrike">
                <a:solidFill>
                  <a:srgbClr val="000000"/>
                </a:solidFill>
                <a:latin typeface="Times New Roman2"/>
              </a:rPr>
              <a:t> al.fosfataz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aget sarkom – 2-1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5" name="Picture 3" descr="prsljen Paget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283360" y="152280"/>
            <a:ext cx="3657600" cy="4473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"/>
          <p:cNvSpPr/>
          <p:nvPr/>
        </p:nvSpPr>
        <p:spPr>
          <a:xfrm>
            <a:off x="4335480" y="1782720"/>
            <a:ext cx="1760400" cy="703800"/>
          </a:xfrm>
          <a:prstGeom prst="rect">
            <a:avLst/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Supkortikalna sklero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6095880" y="2057400"/>
            <a:ext cx="406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7993080" y="2133720"/>
            <a:ext cx="406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203040" y="152280"/>
            <a:ext cx="562140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. Paget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(ostitis deforma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0" name="Group 8"/>
          <p:cNvGrpSpPr/>
          <p:nvPr/>
        </p:nvGrpSpPr>
        <p:grpSpPr>
          <a:xfrm>
            <a:off x="4572000" y="2932200"/>
            <a:ext cx="4457520" cy="3925800"/>
            <a:chOff x="4572000" y="2932200"/>
            <a:chExt cx="4457520" cy="3925800"/>
          </a:xfrm>
        </p:grpSpPr>
        <p:grpSp>
          <p:nvGrpSpPr>
            <p:cNvPr id="761" name="Group 9"/>
            <p:cNvGrpSpPr/>
            <p:nvPr/>
          </p:nvGrpSpPr>
          <p:grpSpPr>
            <a:xfrm>
              <a:off x="4572000" y="2932200"/>
              <a:ext cx="4457520" cy="3925800"/>
              <a:chOff x="4572000" y="2932200"/>
              <a:chExt cx="4457520" cy="3925800"/>
            </a:xfrm>
          </p:grpSpPr>
          <p:pic>
            <p:nvPicPr>
              <p:cNvPr id="762" name="Picture 10" descr="paget karl"/>
              <p:cNvPicPr/>
              <p:nvPr/>
            </p:nvPicPr>
            <p:blipFill>
              <a:blip r:embed="rId3">
                <a:lum contrast="6000"/>
              </a:blip>
              <a:stretch/>
            </p:blipFill>
            <p:spPr>
              <a:xfrm>
                <a:off x="4572000" y="2932200"/>
                <a:ext cx="4097880" cy="39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Text Box 11"/>
              <p:cNvSpPr/>
              <p:nvPr/>
            </p:nvSpPr>
            <p:spPr>
              <a:xfrm>
                <a:off x="7404120" y="3619440"/>
                <a:ext cx="1625400" cy="1008720"/>
              </a:xfrm>
              <a:prstGeom prst="rect">
                <a:avLst/>
              </a:prstGeom>
              <a:gradFill rotWithShape="0">
                <a:gsLst>
                  <a:gs pos="0">
                    <a:srgbClr val="646b86"/>
                  </a:gs>
                  <a:gs pos="100000">
                    <a:srgbClr val="000066">
                      <a:alpha val="3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Mozaična anarhična građ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4" name="Line 12"/>
            <p:cNvSpPr/>
            <p:nvPr/>
          </p:nvSpPr>
          <p:spPr>
            <a:xfrm flipH="1">
              <a:off x="5824800" y="4626000"/>
              <a:ext cx="270720" cy="45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Paget1"/>
          <p:cNvPicPr/>
          <p:nvPr/>
        </p:nvPicPr>
        <p:blipFill>
          <a:blip r:embed="rId1"/>
          <a:stretch/>
        </p:blipFill>
        <p:spPr>
          <a:xfrm>
            <a:off x="3522600" y="1668600"/>
            <a:ext cx="5342040" cy="51894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" descr="Paget"/>
          <p:cNvPicPr/>
          <p:nvPr/>
        </p:nvPicPr>
        <p:blipFill>
          <a:blip r:embed="rId2"/>
          <a:stretch/>
        </p:blipFill>
        <p:spPr>
          <a:xfrm>
            <a:off x="169920" y="304920"/>
            <a:ext cx="4402080" cy="41907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4"/>
          <p:cNvSpPr/>
          <p:nvPr/>
        </p:nvSpPr>
        <p:spPr>
          <a:xfrm rot="20005800">
            <a:off x="2357280" y="58338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5"/>
          <p:cNvSpPr/>
          <p:nvPr/>
        </p:nvSpPr>
        <p:spPr>
          <a:xfrm rot="17716200">
            <a:off x="-79920" y="4237560"/>
            <a:ext cx="2057400" cy="135000"/>
          </a:xfrm>
          <a:prstGeom prst="rightArrow">
            <a:avLst>
              <a:gd name="adj1" fmla="val 50000"/>
              <a:gd name="adj2" fmla="val 381000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AutoShape 6"/>
          <p:cNvSpPr/>
          <p:nvPr/>
        </p:nvSpPr>
        <p:spPr>
          <a:xfrm rot="18045600">
            <a:off x="1815840" y="4388760"/>
            <a:ext cx="2057400" cy="136440"/>
          </a:xfrm>
          <a:prstGeom prst="rightArrow">
            <a:avLst>
              <a:gd name="adj1" fmla="val 50000"/>
              <a:gd name="adj2" fmla="val 376979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5508720" y="612720"/>
            <a:ext cx="2944800" cy="5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M. Pa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338040" y="228600"/>
            <a:ext cx="4810320" cy="642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ccb4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Primarne koštane cis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338040" y="11430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262080" y="1181160"/>
            <a:ext cx="5486400" cy="6349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rimarne koštane ciste – šupljine pokrivene mezotelom, ispunjene sadržaje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iologija: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nejasna - trauma krvnih sudova; distrofični ili metabolički poremećaj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okalizacija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etafize dugih cevastih kostij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tg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jasno, ekcentrično rasvetljenje, bez promene u okolini; lak naduv kost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neurizmatska cist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anjen korteks, ugnut u stranu, trabekulacija u cisti; kičma, karl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cc"/>
                </a:solidFill>
                <a:latin typeface="Times New Roman"/>
              </a:rPr>
              <a:t>Dif.Dg: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ffffff"/>
                </a:solidFill>
                <a:latin typeface="Times New Roman"/>
              </a:rPr>
              <a:t>sekundarne ciste, benigni 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4" name="Picture 5" descr="tt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18000" y="434880"/>
            <a:ext cx="3454560" cy="6118200"/>
          </a:xfrm>
          <a:prstGeom prst="rect">
            <a:avLst/>
          </a:prstGeom>
          <a:ln w="0">
            <a:noFill/>
          </a:ln>
        </p:spPr>
      </p:pic>
      <p:sp>
        <p:nvSpPr>
          <p:cNvPr id="775" name="AutoShape 6"/>
          <p:cNvSpPr/>
          <p:nvPr/>
        </p:nvSpPr>
        <p:spPr>
          <a:xfrm rot="17446200">
            <a:off x="8238960" y="2961720"/>
            <a:ext cx="762120" cy="171360"/>
          </a:xfrm>
          <a:prstGeom prst="leftArrow">
            <a:avLst>
              <a:gd name="adj1" fmla="val 50000"/>
              <a:gd name="adj2" fmla="val 1111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220680" y="150840"/>
            <a:ext cx="4808520" cy="6846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SEPTIČNE NEKROZE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nepoznat uzrok (trauma, vaskularna teorija); mlađe ž.doba, kada nisu epifize srasle; epifize,apofize, hrsk.ploče, pljosnate, kratke kosti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M. Perthes</a:t>
            </a:r>
            <a:r>
              <a:rPr b="0" lang="sl-SI" sz="1800" spc="-1" strike="noStrike">
                <a:solidFill>
                  <a:srgbClr val="000000"/>
                </a:solidFill>
                <a:latin typeface="Times New Roman2"/>
              </a:rPr>
              <a:t> –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As.osteonekroza glave femura; jednostrano; osteoporoza, skleroza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 fragmentacija, deformacija  gl.femura , skraćen izadebljan vrat sa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2"/>
              </a:rPr>
              <a:t>coxa vara;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razvoj deform. artroze; Spontani bolovi, otežan h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Alban-Kochler-ova bolest:</a:t>
            </a:r>
            <a:r>
              <a:rPr b="0" lang="sl-SI" sz="1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navikular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kost tarz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Friberg-Kochler-ova bolest:</a:t>
            </a:r>
            <a:r>
              <a:rPr b="0" lang="sl-SI" sz="18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glavica II metatarzalne k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Kienbock-ova bolest: os lunat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Osgood-Schlatter-ova bolest: apofiza tibi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Calveova bolest – vertebra plana necro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M. Scheurmann – juvenilna kifo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M. Konig – osteochondrosis dissecans (eifiza femura, humer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4" descr="asept"/>
          <p:cNvPicPr/>
          <p:nvPr/>
        </p:nvPicPr>
        <p:blipFill>
          <a:blip r:embed="rId1"/>
          <a:stretch/>
        </p:blipFill>
        <p:spPr>
          <a:xfrm>
            <a:off x="5079960" y="685800"/>
            <a:ext cx="3921120" cy="54864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"/>
          <p:cNvSpPr/>
          <p:nvPr/>
        </p:nvSpPr>
        <p:spPr>
          <a:xfrm>
            <a:off x="7415280" y="1143000"/>
            <a:ext cx="1353960" cy="368280"/>
          </a:xfrm>
          <a:prstGeom prst="rect">
            <a:avLst/>
          </a:prstGeom>
          <a:gradFill rotWithShape="0">
            <a:gsLst>
              <a:gs pos="0">
                <a:srgbClr val="000066">
                  <a:alpha val="42352"/>
                </a:srgbClr>
              </a:gs>
              <a:gs pos="100000">
                <a:srgbClr val="646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c000"/>
                </a:solidFill>
                <a:latin typeface="Times New Roman"/>
              </a:rPr>
              <a:t>M. Pert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250920" y="1295280"/>
            <a:ext cx="8713800" cy="5816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Radio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imetrične kosti – 2 snimka; snimci u 2 projekcije; zglob sa zglobnim okrajk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Radioskop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epozicija u ortopedi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Tomo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frontalna i transverzal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Makrograf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Radioizotopska scinti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funkc. metoda (fiziologija metabol. P); skrining – onkologija (rana detekcija meta promena - 6 meseci od Rt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CT i MR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procena operabilnosti T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. Angiograf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ndirektna procena vaskularizaci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8.  Rtg dijagnostika zglobova: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rtrografija, meniskografija, diskograf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982800" y="95400"/>
            <a:ext cx="73832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Rendgenski pregled koštanog siste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947880" y="228600"/>
            <a:ext cx="724824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46b8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c000"/>
                </a:solidFill>
                <a:latin typeface="Times New Roman"/>
              </a:rPr>
              <a:t>Benigni i semimaligni tumori kostij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3"/>
          <p:cNvSpPr/>
          <p:nvPr/>
        </p:nvSpPr>
        <p:spPr>
          <a:xfrm>
            <a:off x="131760" y="1484280"/>
            <a:ext cx="901224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Često se javljaju, kl.značaj – kompresija na okolno tkivo </a:t>
            </a:r>
            <a:r>
              <a:rPr b="1" i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hirurgija</a:t>
            </a:r>
            <a:r>
              <a:rPr b="1" i="1" lang="sl-SI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2"/>
              </a:rPr>
              <a:t>Nastaju od svih elemenata koštanogtkiva; ne metastaziraju, ne recidiviraj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koji stvaraju kost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m, osteoidni osteom, osteoblastom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koji stvaraju hrskavicu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hondrom*, hondrom*, hondroblastom, hondromiksoidni fib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iz ćelija vezivnog tkiva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klastom*, neosteogeni fib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vaskularnog porekla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hemangiom, limfangiom, glomus tum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nervnog porekla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neurofibrom, ganglioneurinom, neurinom (schwanno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umori periostalnog porekla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periostalni desm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Druge vrste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desmopidni fibrom, hordom*, adamantinom*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68400" y="457200"/>
            <a:ext cx="5011560" cy="2765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OSTEOM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enigni Tu; kosti lobanje i paranazalne šupljine; cevaste k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st sačuvane građe i ne menja obli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jasno ograničeni, spongiozne ili kompaktne građe; u kosti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endostomi)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ili prominiraju van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egzostom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presija na susedne organe.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3" name="Picture 3" descr="osteid osteoma"/>
          <p:cNvPicPr/>
          <p:nvPr/>
        </p:nvPicPr>
        <p:blipFill>
          <a:blip r:embed="rId1"/>
          <a:stretch/>
        </p:blipFill>
        <p:spPr>
          <a:xfrm>
            <a:off x="5148360" y="228600"/>
            <a:ext cx="25923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4"/>
          <p:cNvGrpSpPr/>
          <p:nvPr/>
        </p:nvGrpSpPr>
        <p:grpSpPr>
          <a:xfrm>
            <a:off x="139680" y="3200400"/>
            <a:ext cx="8710200" cy="3581280"/>
            <a:chOff x="139680" y="3200400"/>
            <a:chExt cx="8710200" cy="3581280"/>
          </a:xfrm>
        </p:grpSpPr>
        <p:grpSp>
          <p:nvGrpSpPr>
            <p:cNvPr id="785" name="Group 5"/>
            <p:cNvGrpSpPr/>
            <p:nvPr/>
          </p:nvGrpSpPr>
          <p:grpSpPr>
            <a:xfrm>
              <a:off x="139680" y="3200400"/>
              <a:ext cx="8710200" cy="3581280"/>
              <a:chOff x="139680" y="3200400"/>
              <a:chExt cx="8710200" cy="3581280"/>
            </a:xfrm>
          </p:grpSpPr>
          <p:sp>
            <p:nvSpPr>
              <p:cNvPr id="786" name="Text Box 6"/>
              <p:cNvSpPr/>
              <p:nvPr/>
            </p:nvSpPr>
            <p:spPr>
              <a:xfrm>
                <a:off x="139680" y="3486240"/>
                <a:ext cx="5011920" cy="30704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646b8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ffff00"/>
                    </a:solidFill>
                    <a:latin typeface="Times New Roman"/>
                  </a:rPr>
                  <a:t>HONDROM</a:t>
                </a:r>
                <a:r>
                  <a:rPr b="1" lang="sl-SI" sz="20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sl-SI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Semimaligni Tu; falange, karlica*, femur, humerus;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Lobulirana građa hrsk.tkiva, česte Ca</a:t>
                </a:r>
                <a:r>
                  <a:rPr b="1" lang="sl-SI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+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Rtg: jasno ograničeni, negomogene mekotkivne senke, Ca</a:t>
                </a:r>
                <a:r>
                  <a:rPr b="1" lang="sl-SI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+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(osteohondrom)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 i deformacija kosti; razvoj u kosti </a:t>
                </a: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(enhondromi)</a:t>
                </a: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 ili van kosti </a:t>
                </a:r>
                <a:r>
                  <a:rPr b="1" i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(ekhondromi);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000" spc="-1" strike="noStrike">
                    <a:solidFill>
                      <a:srgbClr val="000000"/>
                    </a:solidFill>
                    <a:latin typeface="Times New Roman"/>
                  </a:rPr>
                  <a:t>Kompresija na susedne organe, recidivi.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87" name="Picture 7" descr="enhondroma"/>
              <p:cNvPicPr/>
              <p:nvPr/>
            </p:nvPicPr>
            <p:blipFill>
              <a:blip r:embed="rId2"/>
              <a:stretch/>
            </p:blipFill>
            <p:spPr>
              <a:xfrm>
                <a:off x="6366600" y="3200400"/>
                <a:ext cx="248328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Text Box 8"/>
              <p:cNvSpPr/>
              <p:nvPr/>
            </p:nvSpPr>
            <p:spPr>
              <a:xfrm>
                <a:off x="5079600" y="5029200"/>
                <a:ext cx="1422360" cy="5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l-SI" sz="1800" spc="-1" strike="noStrike">
                    <a:solidFill>
                      <a:srgbClr val="000000"/>
                    </a:solidFill>
                    <a:latin typeface="Times New Roman"/>
                  </a:rPr>
                  <a:t>Enhondro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l-SI" sz="1800" spc="-1" strike="noStrike">
                    <a:solidFill>
                      <a:srgbClr val="000000"/>
                    </a:solidFill>
                    <a:latin typeface="Times New Roman"/>
                  </a:rPr>
                  <a:t>kalcifikacij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9" name="Line 9"/>
            <p:cNvSpPr/>
            <p:nvPr/>
          </p:nvSpPr>
          <p:spPr>
            <a:xfrm>
              <a:off x="6366600" y="5410080"/>
              <a:ext cx="5414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0" name="Text Box 10"/>
          <p:cNvSpPr/>
          <p:nvPr/>
        </p:nvSpPr>
        <p:spPr>
          <a:xfrm>
            <a:off x="6516720" y="91440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c000"/>
                </a:solidFill>
                <a:latin typeface="Times New Roman"/>
              </a:rPr>
              <a:t>Endos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Line 11"/>
          <p:cNvSpPr/>
          <p:nvPr/>
        </p:nvSpPr>
        <p:spPr>
          <a:xfrm flipV="1">
            <a:off x="7043760" y="1600200"/>
            <a:ext cx="27144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hemang"/>
          <p:cNvPicPr/>
          <p:nvPr/>
        </p:nvPicPr>
        <p:blipFill>
          <a:blip r:embed="rId1"/>
          <a:stretch/>
        </p:blipFill>
        <p:spPr>
          <a:xfrm>
            <a:off x="135000" y="152280"/>
            <a:ext cx="3184560" cy="398484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3"/>
          <p:cNvSpPr/>
          <p:nvPr/>
        </p:nvSpPr>
        <p:spPr>
          <a:xfrm>
            <a:off x="3319560" y="457200"/>
            <a:ext cx="5689440" cy="2886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MANGIOM</a:t>
            </a:r>
            <a:r>
              <a:rPr b="1" lang="sl-SI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enigni Tu; kavernozni (kičmeni pršljen) i ređi kapilarni (metafize cevastih kostij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Zahvata Th. ili Lumb. pršljen - ređe dva; sačuvan oblik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aksijalno raspoređena trabekularna spongiozna građa (hipert. atrofija), ređe cistična rasvetljenja; interv.prostor obično sačuvan;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ereze, paraplegije, promene senzibiliteta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4"/>
          <p:cNvSpPr/>
          <p:nvPr/>
        </p:nvSpPr>
        <p:spPr>
          <a:xfrm flipV="1">
            <a:off x="2573280" y="1980720"/>
            <a:ext cx="542880" cy="304920"/>
          </a:xfrm>
          <a:prstGeom prst="line">
            <a:avLst/>
          </a:prstGeom>
          <a:ln w="349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2573280" y="2895480"/>
            <a:ext cx="474840" cy="304920"/>
          </a:xfrm>
          <a:prstGeom prst="line">
            <a:avLst/>
          </a:prstGeom>
          <a:ln w="349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6" name="Group 6"/>
          <p:cNvGrpSpPr/>
          <p:nvPr/>
        </p:nvGrpSpPr>
        <p:grpSpPr>
          <a:xfrm>
            <a:off x="135000" y="3429000"/>
            <a:ext cx="8945280" cy="3375360"/>
            <a:chOff x="135000" y="3429000"/>
            <a:chExt cx="8945280" cy="3375360"/>
          </a:xfrm>
        </p:grpSpPr>
        <p:sp>
          <p:nvSpPr>
            <p:cNvPr id="797" name="Text Box 7"/>
            <p:cNvSpPr/>
            <p:nvPr/>
          </p:nvSpPr>
          <p:spPr>
            <a:xfrm>
              <a:off x="3729240" y="3429000"/>
              <a:ext cx="5351040" cy="3375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646b8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ff00"/>
                  </a:solidFill>
                  <a:latin typeface="Times New Roman"/>
                </a:rPr>
                <a:t>OSTEKLASTOM</a:t>
              </a:r>
              <a:r>
                <a:rPr b="1" lang="sl-SI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sl-SI" sz="2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semimaligni Tu; distalna epifiza femura i radijusa; proksimalna epifiza tibije i  humerusa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Rastom menja oblik i građu kosti; bez destrukcije;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Rtg:  </a:t>
              </a:r>
              <a:r>
                <a:rPr b="1" i="1" lang="sl-SI" sz="2000" spc="-1" strike="noStrike">
                  <a:solidFill>
                    <a:srgbClr val="000000"/>
                  </a:solidFill>
                  <a:latin typeface="Times New Roman"/>
                </a:rPr>
                <a:t>jasno ograničeno, multipla rasvetljenja (mehur sapunice), ciste odeljene lamelama; naduv kosti; bez periostalne reakcije i skleroze;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Bolovi, </a:t>
              </a: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l-SI" sz="2000" spc="-1" strike="noStrike">
                  <a:solidFill>
                    <a:srgbClr val="000000"/>
                  </a:solidFill>
                  <a:latin typeface="Times New Roman"/>
                </a:rPr>
                <a:t> lokalna t °.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98" name="Group 8"/>
            <p:cNvGrpSpPr/>
            <p:nvPr/>
          </p:nvGrpSpPr>
          <p:grpSpPr>
            <a:xfrm>
              <a:off x="135000" y="3657600"/>
              <a:ext cx="3589560" cy="3048120"/>
              <a:chOff x="135000" y="3657600"/>
              <a:chExt cx="3589560" cy="3048120"/>
            </a:xfrm>
          </p:grpSpPr>
          <p:pic>
            <p:nvPicPr>
              <p:cNvPr id="799" name="Picture 9" descr="osteokl"/>
              <p:cNvPicPr/>
              <p:nvPr/>
            </p:nvPicPr>
            <p:blipFill>
              <a:blip r:embed="rId2"/>
              <a:stretch/>
            </p:blipFill>
            <p:spPr>
              <a:xfrm>
                <a:off x="1760400" y="3657600"/>
                <a:ext cx="1964160" cy="304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Picture 10" descr="osteocl"/>
              <p:cNvPicPr/>
              <p:nvPr/>
            </p:nvPicPr>
            <p:blipFill>
              <a:blip r:embed="rId3"/>
              <a:stretch/>
            </p:blipFill>
            <p:spPr>
              <a:xfrm>
                <a:off x="135000" y="3657600"/>
                <a:ext cx="1715760" cy="304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69920" y="682560"/>
            <a:ext cx="4572000" cy="615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OSTEOSARKOM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eklo i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z matriksa kosti ili od osteoblasta,metafize donjih ekstremiteta (&gt;50%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Times New Roman"/>
              </a:rPr>
              <a:t>Rtg </a:t>
            </a:r>
            <a:r>
              <a:rPr b="1" i="1" lang="sl-SI" sz="1800" spc="-1" strike="noStrike">
                <a:solidFill>
                  <a:srgbClr val="ffffff"/>
                </a:solidFill>
                <a:latin typeface="Times New Roman"/>
              </a:rPr>
              <a:t>– atrofične promene; nalik osteomijelitisu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ffff"/>
                </a:solidFill>
                <a:latin typeface="Times New Roman"/>
              </a:rPr>
              <a:t>1.</a:t>
            </a:r>
            <a:r>
              <a:rPr b="0" lang="sl-SI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ffff"/>
                </a:solidFill>
                <a:latin typeface="Times New Roman"/>
              </a:rPr>
              <a:t>Osteolitični oblik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atrofija do osteol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potpuni gubita k.građe (tabula rasa); razo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i trnoliko odignut korteks (Codman-ov zna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veliki otok m.tkiva i plaže novostvorene kost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ffff"/>
                </a:solidFill>
                <a:latin typeface="Times New Roman"/>
              </a:rPr>
              <a:t>2. Osteosklerotični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kondenzacija-skleroza spongiozne građe (neoformacije različito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oblika); između očuvani delovi kosti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periostalne naslage sa odlubljivanje perio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</a:rPr>
              <a:t>(spikule); manji otok m.tkiv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Bol, bled </a:t>
            </a:r>
            <a:r>
              <a:rPr b="1" lang="sl-SI" sz="18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 lividan otok fiksiran za ko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99"/>
                </a:solidFill>
                <a:latin typeface="Symbol"/>
                <a:ea typeface="Symbol"/>
              </a:rPr>
              <a:t>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SE; </a:t>
            </a:r>
            <a:r>
              <a:rPr b="1" lang="sl-SI" sz="1800" spc="-1" strike="noStrike">
                <a:solidFill>
                  <a:srgbClr val="ffff99"/>
                </a:solidFill>
                <a:latin typeface="Symbol"/>
                <a:ea typeface="Symbol"/>
              </a:rPr>
              <a:t></a:t>
            </a: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 al.fosfataze; brza evolucija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99"/>
                </a:solidFill>
                <a:latin typeface="Times New Roman"/>
              </a:rPr>
              <a:t>meta 1 godini (pluća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3" name="Picture 4" descr="osteo Sa"/>
          <p:cNvPicPr/>
          <p:nvPr/>
        </p:nvPicPr>
        <p:blipFill>
          <a:blip r:embed="rId1"/>
          <a:stretch/>
        </p:blipFill>
        <p:spPr>
          <a:xfrm>
            <a:off x="4741920" y="739800"/>
            <a:ext cx="4402080" cy="54687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osteoplastosteosa2"/>
          <p:cNvPicPr/>
          <p:nvPr/>
        </p:nvPicPr>
        <p:blipFill>
          <a:blip r:embed="rId2"/>
          <a:stretch/>
        </p:blipFill>
        <p:spPr>
          <a:xfrm>
            <a:off x="4741920" y="739800"/>
            <a:ext cx="4402080" cy="54687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osteoplastosteosa3"/>
          <p:cNvPicPr/>
          <p:nvPr/>
        </p:nvPicPr>
        <p:blipFill>
          <a:blip r:embed="rId3"/>
          <a:stretch/>
        </p:blipFill>
        <p:spPr>
          <a:xfrm>
            <a:off x="5238720" y="739800"/>
            <a:ext cx="34434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0" y="609480"/>
            <a:ext cx="5016600" cy="6706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2"/>
              </a:rPr>
              <a:t>EWING-ov SARKOM</a:t>
            </a:r>
            <a:r>
              <a:rPr b="0" lang="sl-SI" sz="2400" spc="-1" strike="noStrike">
                <a:solidFill>
                  <a:srgbClr val="ffffff"/>
                </a:solidFill>
                <a:latin typeface="Times New Roman2"/>
              </a:rPr>
              <a:t>-</a:t>
            </a:r>
            <a:r>
              <a:rPr b="0" lang="sl-SI" sz="2000" spc="-1" strike="noStrike">
                <a:solidFill>
                  <a:srgbClr val="ffffff"/>
                </a:solidFill>
                <a:latin typeface="Times New Roman2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2"/>
              </a:rPr>
              <a:t>i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z  ćelija kostne srži; ekspanzivan, destruktivan; dečiji uzrast; centralni delovi dijafiza cevastih kostiju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Rt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imes New Roman2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Atrofična, osteolitična ognjišta, “izmoljčan” izgled kosti, nalik osteomojelitisu; periostalna reakcija ( listanje periosta – “lukovica”, vretenast izgled dijafize kosti ) sve do potpune destrukcije; zglobovi intaktni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imes New Roman2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Odsustvo endostalne kostne reakcij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( kalcifikovanih ili osifikovanih delova 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Times New Roman2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Rano metastaziranje u drugim kostima; radiosenzitivan, po zračenju – remineralizacija i osifikacija Tu masa ( “kost u kosti” )  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Times New Roman2"/>
              </a:rPr>
              <a:t>Ubrzan kliniški tok, bolovi, znaci zapalenja; limfadenopatija;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8" name="Picture 4" descr="ewing tu"/>
          <p:cNvPicPr/>
          <p:nvPr/>
        </p:nvPicPr>
        <p:blipFill>
          <a:blip r:embed="rId1"/>
          <a:stretch/>
        </p:blipFill>
        <p:spPr>
          <a:xfrm>
            <a:off x="4915080" y="304920"/>
            <a:ext cx="4093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Ewwing Sa"/>
          <p:cNvPicPr/>
          <p:nvPr/>
        </p:nvPicPr>
        <p:blipFill>
          <a:blip r:embed="rId1"/>
          <a:stretch/>
        </p:blipFill>
        <p:spPr>
          <a:xfrm>
            <a:off x="338040" y="1371600"/>
            <a:ext cx="5148360" cy="49528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" descr="Ewing femura"/>
          <p:cNvPicPr/>
          <p:nvPr/>
        </p:nvPicPr>
        <p:blipFill>
          <a:blip r:embed="rId2"/>
          <a:stretch/>
        </p:blipFill>
        <p:spPr>
          <a:xfrm>
            <a:off x="5689440" y="1066680"/>
            <a:ext cx="3251520" cy="533412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4"/>
          <p:cNvSpPr/>
          <p:nvPr/>
        </p:nvSpPr>
        <p:spPr>
          <a:xfrm>
            <a:off x="677880" y="380880"/>
            <a:ext cx="4876920" cy="581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2"/>
              </a:rPr>
              <a:t>EWING - ov SARK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4944960" y="2438280"/>
            <a:ext cx="135000" cy="990720"/>
          </a:xfrm>
          <a:prstGeom prst="downArrow">
            <a:avLst>
              <a:gd name="adj1" fmla="val 50000"/>
              <a:gd name="adj2" fmla="val 183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AutoShape 6"/>
          <p:cNvSpPr/>
          <p:nvPr/>
        </p:nvSpPr>
        <p:spPr>
          <a:xfrm rot="2560200">
            <a:off x="8399160" y="1523880"/>
            <a:ext cx="135000" cy="990720"/>
          </a:xfrm>
          <a:prstGeom prst="downArrow">
            <a:avLst>
              <a:gd name="adj1" fmla="val 50000"/>
              <a:gd name="adj2" fmla="val 183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144360" y="446040"/>
            <a:ext cx="3454560" cy="5862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MULTIPLI MIJELOM -PLASMOCITOM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maligno obolenje kostne moždine, starije ž.doba; brojna Neo osteolitična ognjišta; stvaraju se istovremeno; lobanja, kičma, d.cevaste kosti; PL.: u jednoj kosti, benignij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kružna, jasno ograničena homogena rasvetljenja – multipla osteolitična ognjišta, bez osteosklerotične kostne reakcije (patološke frakture); k.pršljen – osteoliza ili trakast (mrežast) izgled sa klinastom destrukcijo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6" name="Picture 4" descr="Myeloma lobanje"/>
          <p:cNvPicPr/>
          <p:nvPr/>
        </p:nvPicPr>
        <p:blipFill>
          <a:blip r:embed="rId1"/>
          <a:stretch/>
        </p:blipFill>
        <p:spPr>
          <a:xfrm>
            <a:off x="3657600" y="380880"/>
            <a:ext cx="5283360" cy="51786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5"/>
          <p:cNvSpPr/>
          <p:nvPr/>
        </p:nvSpPr>
        <p:spPr>
          <a:xfrm>
            <a:off x="3657600" y="5000760"/>
            <a:ext cx="5486400" cy="21571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if.dg: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osteolitične metastaze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umatski bolovi, anemija, slabost; u mokraći 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Bence-Jonesova belančevi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; u punktatu sternuma plazma ćelije;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SE; hiperglobulinemija i hiperalbuminemija; Komplikacije u bubrezima, plućima ili pojava amiloidoze (Rtg – endostalna i periostna reakcij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multipli mijelom"/>
          <p:cNvPicPr/>
          <p:nvPr/>
        </p:nvPicPr>
        <p:blipFill>
          <a:blip r:embed="rId1"/>
          <a:stretch/>
        </p:blipFill>
        <p:spPr>
          <a:xfrm>
            <a:off x="338040" y="709560"/>
            <a:ext cx="4233960" cy="60958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" descr="fract5"/>
          <p:cNvPicPr/>
          <p:nvPr/>
        </p:nvPicPr>
        <p:blipFill>
          <a:blip r:embed="rId2"/>
          <a:stretch/>
        </p:blipFill>
        <p:spPr>
          <a:xfrm>
            <a:off x="4741920" y="709560"/>
            <a:ext cx="4130640" cy="6019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4"/>
          <p:cNvSpPr/>
          <p:nvPr/>
        </p:nvSpPr>
        <p:spPr>
          <a:xfrm>
            <a:off x="1828800" y="0"/>
            <a:ext cx="5767560" cy="8254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MULTIPLI MIJELOM -PLASMOCI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AutoShape 5"/>
          <p:cNvSpPr/>
          <p:nvPr/>
        </p:nvSpPr>
        <p:spPr>
          <a:xfrm rot="10291200">
            <a:off x="5757840" y="4571280"/>
            <a:ext cx="812880" cy="152280"/>
          </a:xfrm>
          <a:prstGeom prst="rightArrow">
            <a:avLst>
              <a:gd name="adj1" fmla="val 50000"/>
              <a:gd name="adj2" fmla="val 1334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AutoShape 6"/>
          <p:cNvSpPr/>
          <p:nvPr/>
        </p:nvSpPr>
        <p:spPr>
          <a:xfrm rot="2115600">
            <a:off x="293760" y="2641680"/>
            <a:ext cx="880920" cy="125280"/>
          </a:xfrm>
          <a:prstGeom prst="rightArrow">
            <a:avLst>
              <a:gd name="adj1" fmla="val 50000"/>
              <a:gd name="adj2" fmla="val 1757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271440" y="1143000"/>
            <a:ext cx="447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55440" y="311040"/>
            <a:ext cx="4470480" cy="61999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46b8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METASTATSKI TUMORI KOSTIJ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ta u kostima nastaju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er continuitatem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li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hematogen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ćelijski embolus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utem šupljih ve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kavalni tip) – primarni filtar su pluć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 Putem portne vene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primarni filter jetra; drugi su pluća; Tu GIT-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utem plućnih ve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(filtri kapilari velikog krvotoka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tg: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litične meta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rasvetljenja kosti sa destrukcijom i lizom kosti, bez otoka, sačuvan zglobni prostor; bez endostalne reakcije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): Tu dojke, pluća, prostate, š.žlezde, bubrega;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Osteoplastične meta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osteoskleroza – “slonova kost”, kost uvećan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), sačuvan oblik prš.tela: Tu prostate, dojk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g: </a:t>
            </a:r>
            <a:r>
              <a:rPr b="1" i="1" lang="sl-SI" sz="1800" spc="-1" strike="noStrike">
                <a:solidFill>
                  <a:srgbClr val="000000"/>
                </a:solidFill>
                <a:latin typeface="Times New Roman"/>
              </a:rPr>
              <a:t>pukcija srži, nalaz kalcemije, &gt; alk. i kis. fosfataze, scintigrafija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5" name="Picture 4" descr="liticke meta dojka 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237280" y="504720"/>
            <a:ext cx="3206520" cy="4676760"/>
          </a:xfrm>
          <a:prstGeom prst="rect">
            <a:avLst/>
          </a:prstGeom>
          <a:ln w="0">
            <a:noFill/>
          </a:ln>
        </p:spPr>
      </p:pic>
      <p:grpSp>
        <p:nvGrpSpPr>
          <p:cNvPr id="826" name="Group 5"/>
          <p:cNvGrpSpPr/>
          <p:nvPr/>
        </p:nvGrpSpPr>
        <p:grpSpPr>
          <a:xfrm>
            <a:off x="4546440" y="2133720"/>
            <a:ext cx="1963800" cy="761760"/>
            <a:chOff x="4546440" y="2133720"/>
            <a:chExt cx="1963800" cy="761760"/>
          </a:xfrm>
        </p:grpSpPr>
        <p:sp>
          <p:nvSpPr>
            <p:cNvPr id="827" name="Text Box 6"/>
            <p:cNvSpPr/>
            <p:nvPr/>
          </p:nvSpPr>
          <p:spPr>
            <a:xfrm>
              <a:off x="4546440" y="2133720"/>
              <a:ext cx="1963800" cy="703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ff"/>
                  </a:solidFill>
                  <a:latin typeface="Times New Roman"/>
                </a:rPr>
                <a:t>Osteolitičnae me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Line 7"/>
            <p:cNvSpPr/>
            <p:nvPr/>
          </p:nvSpPr>
          <p:spPr>
            <a:xfrm>
              <a:off x="6036120" y="2590920"/>
              <a:ext cx="47376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9" name="Group 8"/>
          <p:cNvGrpSpPr/>
          <p:nvPr/>
        </p:nvGrpSpPr>
        <p:grpSpPr>
          <a:xfrm>
            <a:off x="4546440" y="504720"/>
            <a:ext cx="4402080" cy="5245560"/>
            <a:chOff x="4546440" y="504720"/>
            <a:chExt cx="4402080" cy="5245560"/>
          </a:xfrm>
        </p:grpSpPr>
        <p:pic>
          <p:nvPicPr>
            <p:cNvPr id="830" name="Picture 9" descr="meta prsljen dojka"/>
            <p:cNvPicPr/>
            <p:nvPr/>
          </p:nvPicPr>
          <p:blipFill>
            <a:blip r:embed="rId2"/>
            <a:stretch/>
          </p:blipFill>
          <p:spPr>
            <a:xfrm>
              <a:off x="4546440" y="504720"/>
              <a:ext cx="2689200" cy="47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Line 10"/>
            <p:cNvSpPr/>
            <p:nvPr/>
          </p:nvSpPr>
          <p:spPr>
            <a:xfrm>
              <a:off x="6220080" y="3042720"/>
              <a:ext cx="348480" cy="528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32" name="Picture 11" descr="sklerotske meta"/>
            <p:cNvPicPr/>
            <p:nvPr/>
          </p:nvPicPr>
          <p:blipFill>
            <a:blip r:embed="rId3"/>
            <a:stretch/>
          </p:blipFill>
          <p:spPr>
            <a:xfrm>
              <a:off x="6778080" y="2084400"/>
              <a:ext cx="2170440" cy="31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12"/>
            <p:cNvSpPr/>
            <p:nvPr/>
          </p:nvSpPr>
          <p:spPr>
            <a:xfrm>
              <a:off x="5731920" y="5351400"/>
              <a:ext cx="2371320" cy="398880"/>
            </a:xfrm>
            <a:prstGeom prst="rect">
              <a:avLst/>
            </a:prstGeom>
            <a:gradFill rotWithShape="0">
              <a:gsLst>
                <a:gs pos="0">
                  <a:srgbClr val="000009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00"/>
                  </a:solidFill>
                  <a:latin typeface="Times New Roman"/>
                </a:rPr>
                <a:t>Osteoplastične me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Line 13"/>
            <p:cNvSpPr/>
            <p:nvPr/>
          </p:nvSpPr>
          <p:spPr>
            <a:xfrm>
              <a:off x="8103240" y="3042720"/>
              <a:ext cx="488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o1"/>
          <p:cNvPicPr/>
          <p:nvPr/>
        </p:nvPicPr>
        <p:blipFill>
          <a:blip r:embed="rId1"/>
          <a:stretch/>
        </p:blipFill>
        <p:spPr>
          <a:xfrm>
            <a:off x="203040" y="457200"/>
            <a:ext cx="2167200" cy="56386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" descr="o2"/>
          <p:cNvPicPr/>
          <p:nvPr/>
        </p:nvPicPr>
        <p:blipFill>
          <a:blip r:embed="rId2"/>
          <a:stretch/>
        </p:blipFill>
        <p:spPr>
          <a:xfrm>
            <a:off x="2540160" y="533520"/>
            <a:ext cx="2031840" cy="55623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4" descr="spondilitis et listesis"/>
          <p:cNvPicPr/>
          <p:nvPr/>
        </p:nvPicPr>
        <p:blipFill>
          <a:blip r:embed="rId3"/>
          <a:stretch/>
        </p:blipFill>
        <p:spPr>
          <a:xfrm>
            <a:off x="4808520" y="1523880"/>
            <a:ext cx="4064040" cy="419112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5"/>
          <p:cNvSpPr/>
          <p:nvPr/>
        </p:nvSpPr>
        <p:spPr>
          <a:xfrm>
            <a:off x="4178520" y="223920"/>
            <a:ext cx="559548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2"/>
              </a:rPr>
              <a:t>Patologija ki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2"/>
              </a:rPr>
              <a:t>č</a:t>
            </a:r>
            <a:r>
              <a:rPr b="1" lang="en-US" sz="3200" spc="-1" strike="noStrike">
                <a:solidFill>
                  <a:srgbClr val="ffff00"/>
                </a:solidFill>
                <a:latin typeface="Times New Roman2"/>
              </a:rPr>
              <a:t>menog stu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6"/>
          <p:cNvSpPr/>
          <p:nvPr/>
        </p:nvSpPr>
        <p:spPr>
          <a:xfrm>
            <a:off x="5084640" y="583236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iloza sa spondilolistez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1700280" y="6172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AutoShape 8"/>
          <p:cNvSpPr/>
          <p:nvPr/>
        </p:nvSpPr>
        <p:spPr>
          <a:xfrm>
            <a:off x="4572000" y="3048120"/>
            <a:ext cx="744480" cy="380880"/>
          </a:xfrm>
          <a:prstGeom prst="rightArrow">
            <a:avLst>
              <a:gd name="adj1" fmla="val 50000"/>
              <a:gd name="adj2" fmla="val 4886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271440" y="957240"/>
            <a:ext cx="34545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1.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ostna supstanca (tela osse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orteks (kortikalis)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površni sloj, uzdužne lam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ompakt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tvrđi sloj, lamele oko sistema Haverzovih kanala (dijafize d. cevastih kostiju, tabule pljosnatih kostij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pongioz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pljosnate i kratke kosti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i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fize dugih kostiju (sunđerast izgl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 Perios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uočljiv u patološkim stanjima: zapalenje, trauma, Tu; periostalne naslage (&gt; osteoblastna aktivnost)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1. lamele, 2. nepravilna, jasno ograničena amorfna masa, 3. spiku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Kostna sr</a:t>
            </a:r>
            <a:r>
              <a:rPr b="1" lang="sl-SI" sz="1800" spc="-1" strike="noStrike">
                <a:solidFill>
                  <a:srgbClr val="000000"/>
                </a:solidFill>
                <a:latin typeface="Times New Roman2"/>
              </a:rPr>
              <a:t>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– u medularnom kanalu i spongioz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822240" y="228600"/>
            <a:ext cx="2100240" cy="520560"/>
          </a:xfrm>
          <a:prstGeom prst="rect">
            <a:avLst/>
          </a:prstGeom>
          <a:gradFill rotWithShape="0">
            <a:gsLst>
              <a:gs pos="0">
                <a:srgbClr val="120025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Građa k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Picture 4" descr="Osteomiel 4"/>
          <p:cNvPicPr/>
          <p:nvPr/>
        </p:nvPicPr>
        <p:blipFill>
          <a:blip r:embed="rId1"/>
          <a:stretch/>
        </p:blipFill>
        <p:spPr>
          <a:xfrm>
            <a:off x="3726000" y="628560"/>
            <a:ext cx="5141880" cy="6012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5378400" y="126828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ijafi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 flipH="1" flipV="1">
            <a:off x="5241960" y="1824120"/>
            <a:ext cx="65088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Line 7"/>
          <p:cNvSpPr/>
          <p:nvPr/>
        </p:nvSpPr>
        <p:spPr>
          <a:xfrm flipH="1" flipV="1">
            <a:off x="6394320" y="1824120"/>
            <a:ext cx="649440" cy="1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5554800" y="326880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etafi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9"/>
          <p:cNvSpPr/>
          <p:nvPr/>
        </p:nvSpPr>
        <p:spPr>
          <a:xfrm flipH="1" flipV="1">
            <a:off x="5351400" y="3747600"/>
            <a:ext cx="64944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10"/>
          <p:cNvSpPr/>
          <p:nvPr/>
        </p:nvSpPr>
        <p:spPr>
          <a:xfrm flipH="1" flipV="1">
            <a:off x="6502320" y="3747600"/>
            <a:ext cx="650880" cy="1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5621400" y="52689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epifi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4538520" y="4869000"/>
            <a:ext cx="11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00"/>
                </a:solidFill>
                <a:latin typeface="Times New Roman"/>
              </a:rPr>
              <a:t>spongio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4363920" y="1108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00"/>
                </a:solidFill>
                <a:latin typeface="Times New Roman"/>
              </a:rPr>
              <a:t>Kompak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4402080" y="2724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00"/>
                </a:solidFill>
                <a:latin typeface="Times New Roman"/>
              </a:rPr>
              <a:t>Kortikal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10360" y="228600"/>
            <a:ext cx="1463400" cy="459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eri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16"/>
          <p:cNvSpPr/>
          <p:nvPr/>
        </p:nvSpPr>
        <p:spPr>
          <a:xfrm flipH="1">
            <a:off x="5418000" y="738360"/>
            <a:ext cx="650880" cy="268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7"/>
          <p:cNvSpPr/>
          <p:nvPr/>
        </p:nvSpPr>
        <p:spPr>
          <a:xfrm>
            <a:off x="6040440" y="736560"/>
            <a:ext cx="569880" cy="270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8"/>
          <p:cNvSpPr/>
          <p:nvPr/>
        </p:nvSpPr>
        <p:spPr>
          <a:xfrm>
            <a:off x="4538520" y="1508040"/>
            <a:ext cx="27000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19"/>
          <p:cNvSpPr/>
          <p:nvPr/>
        </p:nvSpPr>
        <p:spPr>
          <a:xfrm>
            <a:off x="4944960" y="1508040"/>
            <a:ext cx="2700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20"/>
          <p:cNvSpPr/>
          <p:nvPr/>
        </p:nvSpPr>
        <p:spPr>
          <a:xfrm>
            <a:off x="4470480" y="3108240"/>
            <a:ext cx="27144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5214960" y="3108240"/>
            <a:ext cx="2714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1000" y="228600"/>
            <a:ext cx="6570720" cy="8380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mene u kostnoj gra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đ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4000" spc="-1" strike="noStrike">
                <a:solidFill>
                  <a:srgbClr val="ffff00"/>
                </a:solidFill>
                <a:latin typeface="Times New Roman"/>
              </a:rPr>
              <a:t> I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350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1. ATROFIJA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–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poremećaj u stvaranju osteoidnog tkiva i sekundarnog deponovanja  Ca 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2"/>
              </a:rPr>
              <a:t>++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, P (demineralizacija ili dekalcinacija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- 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Generalizovana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metabolički, hormonski poremećaji, hemoragije, senilna atrofij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-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 Lokalizovan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infektivni agens u blizini patološkog  procesa – TBC zgloba, inaktivnost, imobilizacij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Osteoporoza: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2"/>
              </a:rPr>
              <a:t>&lt; broj i funkcionalnih osteoblasta; metafize, spongioza staklasta; kompakta i kortikalis istanjeni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Osteomalacija: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2"/>
              </a:rPr>
              <a:t>osteoidno tkivo se ne prožima krečnim solima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2"/>
              </a:rPr>
              <a:t>Osteoliza: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produbljivanje procesa atrofije – razaranje kostne građe </a:t>
            </a:r>
            <a:r>
              <a:rPr b="1" i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defekti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   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Ivične promene – 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2"/>
              </a:rPr>
              <a:t>uzure, karijes;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Centralne promene - 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ciste, kaverne (sol.meta plazmocitom, absces, TBC osteom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2"/>
              </a:rPr>
              <a:t>ijelitis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, osteoklastom, ehinokokus, sklerodermija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975280" cy="83844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Times New Roman"/>
              </a:rPr>
              <a:t>Promene u kostnoj gra</a:t>
            </a:r>
            <a:r>
              <a:rPr b="1" lang="sl-SI" sz="3900" spc="-1" strike="noStrike">
                <a:solidFill>
                  <a:srgbClr val="ffff00"/>
                </a:solidFill>
                <a:latin typeface="Times New Roman"/>
              </a:rPr>
              <a:t>đ</a:t>
            </a:r>
            <a:r>
              <a:rPr b="1" lang="en-US" sz="39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900" spc="-1" strike="noStrike">
                <a:solidFill>
                  <a:srgbClr val="ffff00"/>
                </a:solidFill>
                <a:latin typeface="Times New Roman"/>
              </a:rPr>
              <a:t> II</a:t>
            </a:r>
            <a:endParaRPr b="0" lang="en-US" sz="3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74840" y="1066680"/>
            <a:ext cx="82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2. HIPERTROFIJ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-</a:t>
            </a:r>
            <a:r>
              <a:rPr b="1" lang="sl-SI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&gt; stvaranje kostnog tkiva ili sporija resorpcija;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Osteoskleroz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spongioskleroza: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koštanog tkiva u kompakti, korteksu i spongiozi (gubitak gra|e – eburnizacija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Endostoz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: 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koštanog tkiva na unutrašnjem delu kompakte, sužen medularnni kanal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Periostoza: </a:t>
            </a:r>
            <a:r>
              <a:rPr b="1" lang="sl-SI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koštanog tkiva u predelu periosta (trauma, upala, neoplazme, avitaminoza); Oblik – spikule, amorfna masa, lisnata forma; Raspored – politopne, generalizovane; osteofiti i egzostoze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3. DISTROFIJA (pahiostoza)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–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koštano tkivo zamenjeno novim (fiboznim) tkivom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– </a:t>
            </a:r>
            <a:r>
              <a:rPr b="1" i="1" lang="sl-SI" sz="2200" spc="-1" strike="noStrike">
                <a:solidFill>
                  <a:srgbClr val="000000"/>
                </a:solidFill>
                <a:latin typeface="Times New Roman2"/>
              </a:rPr>
              <a:t>(M. Paget, M. Recklinghausen);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promena oblika i građe koštanog tkiva; koštana struktura se ne raspoznaje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4. NEKROZA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– Izumiranje kosti sa stvaranjem sekvestra</a:t>
            </a:r>
            <a:r>
              <a:rPr b="0" lang="sl-SI" sz="22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(okolo svetla zona granulacionog tkiva), sa ili bez taloženja Ca</a:t>
            </a:r>
            <a:r>
              <a:rPr b="1" lang="sl-SI" sz="2200" spc="-1" strike="noStrike" baseline="30000">
                <a:solidFill>
                  <a:srgbClr val="000000"/>
                </a:solidFill>
                <a:latin typeface="Times New Roman2"/>
              </a:rPr>
              <a:t>++</a:t>
            </a:r>
            <a:r>
              <a:rPr b="1" lang="sl-SI" sz="2200" spc="-1" strike="noStrike">
                <a:solidFill>
                  <a:srgbClr val="000000"/>
                </a:solidFill>
                <a:latin typeface="Times New Roman2"/>
              </a:rPr>
              <a:t> soli.</a:t>
            </a:r>
            <a:r>
              <a:rPr b="1" i="1" lang="sl-SI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fract5"/>
          <p:cNvPicPr/>
          <p:nvPr/>
        </p:nvPicPr>
        <p:blipFill>
          <a:blip r:embed="rId1"/>
          <a:stretch/>
        </p:blipFill>
        <p:spPr>
          <a:xfrm>
            <a:off x="2162160" y="152280"/>
            <a:ext cx="2373480" cy="60199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fract56"/>
          <p:cNvPicPr/>
          <p:nvPr/>
        </p:nvPicPr>
        <p:blipFill>
          <a:blip r:embed="rId2"/>
          <a:stretch/>
        </p:blipFill>
        <p:spPr>
          <a:xfrm>
            <a:off x="4648320" y="152280"/>
            <a:ext cx="2260440" cy="6019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o"/>
          <p:cNvPicPr/>
          <p:nvPr/>
        </p:nvPicPr>
        <p:blipFill>
          <a:blip r:embed="rId3"/>
          <a:stretch/>
        </p:blipFill>
        <p:spPr>
          <a:xfrm>
            <a:off x="203040" y="152280"/>
            <a:ext cx="1884600" cy="60199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5"/>
          <p:cNvSpPr/>
          <p:nvPr/>
        </p:nvSpPr>
        <p:spPr>
          <a:xfrm>
            <a:off x="0" y="6180120"/>
            <a:ext cx="21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hiperparatireoidn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osteodistrofi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761480" y="6180120"/>
            <a:ext cx="3262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Rahit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alimentarna osteodistrifi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4572000" y="6161040"/>
            <a:ext cx="2540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Osteoporo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stara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2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New Roman2"/>
              </a:rPr>
              <a:t>ka osteomalacij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7286760" y="62769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2"/>
              </a:rPr>
              <a:t>spondilo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0" name="Group 9"/>
          <p:cNvGrpSpPr/>
          <p:nvPr/>
        </p:nvGrpSpPr>
        <p:grpSpPr>
          <a:xfrm>
            <a:off x="6502320" y="152280"/>
            <a:ext cx="2405880" cy="6096240"/>
            <a:chOff x="6502320" y="152280"/>
            <a:chExt cx="2405880" cy="6096240"/>
          </a:xfrm>
        </p:grpSpPr>
        <p:pic>
          <p:nvPicPr>
            <p:cNvPr id="651" name="Picture 10" descr="o"/>
            <p:cNvPicPr/>
            <p:nvPr/>
          </p:nvPicPr>
          <p:blipFill>
            <a:blip r:embed="rId4"/>
            <a:stretch/>
          </p:blipFill>
          <p:spPr>
            <a:xfrm>
              <a:off x="6976440" y="152280"/>
              <a:ext cx="18957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11" descr="o1"/>
            <p:cNvPicPr/>
            <p:nvPr/>
          </p:nvPicPr>
          <p:blipFill>
            <a:blip r:embed="rId5"/>
            <a:stretch/>
          </p:blipFill>
          <p:spPr>
            <a:xfrm>
              <a:off x="6976440" y="3429000"/>
              <a:ext cx="189576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AutoShape 12"/>
            <p:cNvSpPr/>
            <p:nvPr/>
          </p:nvSpPr>
          <p:spPr>
            <a:xfrm rot="14342400">
              <a:off x="8359920" y="1985040"/>
              <a:ext cx="685800" cy="67680"/>
            </a:xfrm>
            <a:prstGeom prst="rightArrow">
              <a:avLst>
                <a:gd name="adj1" fmla="val 50000"/>
                <a:gd name="adj2" fmla="val 25332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AutoShape 13"/>
            <p:cNvSpPr/>
            <p:nvPr/>
          </p:nvSpPr>
          <p:spPr>
            <a:xfrm>
              <a:off x="6502320" y="1371600"/>
              <a:ext cx="609480" cy="76320"/>
            </a:xfrm>
            <a:prstGeom prst="rightArrow">
              <a:avLst>
                <a:gd name="adj1" fmla="val 50000"/>
                <a:gd name="adj2" fmla="val 1996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AutoShape 14"/>
            <p:cNvSpPr/>
            <p:nvPr/>
          </p:nvSpPr>
          <p:spPr>
            <a:xfrm>
              <a:off x="6705360" y="4267080"/>
              <a:ext cx="609480" cy="76320"/>
            </a:xfrm>
            <a:prstGeom prst="rightArrow">
              <a:avLst>
                <a:gd name="adj1" fmla="val 50000"/>
                <a:gd name="adj2" fmla="val 1996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07960" y="3165480"/>
            <a:ext cx="699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57360" y="228600"/>
            <a:ext cx="6842160" cy="838080"/>
          </a:xfrm>
          <a:prstGeom prst="rect">
            <a:avLst/>
          </a:prstGeom>
          <a:gradFill rotWithShape="0">
            <a:gsLst>
              <a:gs pos="0">
                <a:srgbClr val="646b8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Promene </a:t>
            </a:r>
            <a:r>
              <a:rPr b="1" lang="sl-SI" sz="3500" spc="-1" strike="noStrike">
                <a:solidFill>
                  <a:srgbClr val="ffff00"/>
                </a:solidFill>
                <a:latin typeface="Times New Roman"/>
              </a:rPr>
              <a:t>oblika i veličine kostiju</a:t>
            </a:r>
            <a:endParaRPr b="0" lang="en-US" sz="3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71440" y="1447920"/>
            <a:ext cx="866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1. AGENEZ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nedostaje zametak kosti;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2. APLAZIJA (anostoza)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normalno zametnuta kost se ne razvija ili se razvija deo kosti (duge kosti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3. HIPERPLAZIJA -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rast dela ili cele kosti (i mekih tkiva); falange – Mb. Addisoni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4. HIPOPLAZIJA -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rast kostiju (skraćenje, istanjenost, deformacije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5. HIPER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pojačan rast hrskavice i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  <a:ea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ili koštanog tkiva; kosti neproporcionalno i izdužene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6. HIP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 rast hrskavice i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  <a:ea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ili k.tkiva; kosti nežne, slabe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građe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7. AN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osteolitičko razaranje normalno razvijene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kosti (Tu, </a:t>
            </a:r>
            <a:r>
              <a:rPr b="1" lang="en-US" sz="2400" spc="-1" strike="noStrike">
                <a:solidFill>
                  <a:srgbClr val="000000"/>
                </a:solidFill>
                <a:latin typeface="Times New Roman2"/>
              </a:rPr>
              <a:t>m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eta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8. EDOSTOZA</a:t>
            </a:r>
            <a:r>
              <a:rPr b="0" lang="sl-SI" sz="2400" spc="-1" strike="noStrike">
                <a:solidFill>
                  <a:srgbClr val="000000"/>
                </a:solidFill>
                <a:latin typeface="Times New Roman2"/>
              </a:rPr>
              <a:t> - </a:t>
            </a:r>
            <a:r>
              <a:rPr b="1" lang="sl-SI" sz="2400" spc="-1" strike="noStrike">
                <a:solidFill>
                  <a:srgbClr val="000000"/>
                </a:solidFill>
                <a:latin typeface="Times New Roman2"/>
              </a:rPr>
              <a:t>naduv kosti; spongioza metafiza i epifiza (ciste, fibrozna displazija, osteoklastom);</a:t>
            </a:r>
            <a:r>
              <a:rPr b="0" lang="sl-SI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1965240" y="380880"/>
            <a:ext cx="5092920" cy="6248520"/>
            <a:chOff x="1965240" y="380880"/>
            <a:chExt cx="5092920" cy="6248520"/>
          </a:xfrm>
        </p:grpSpPr>
        <p:pic>
          <p:nvPicPr>
            <p:cNvPr id="660" name="Picture 3" descr="6x"/>
            <p:cNvPicPr/>
            <p:nvPr/>
          </p:nvPicPr>
          <p:blipFill>
            <a:blip r:embed="rId1"/>
            <a:stretch/>
          </p:blipFill>
          <p:spPr>
            <a:xfrm>
              <a:off x="1965240" y="380880"/>
              <a:ext cx="509292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4"/>
            <p:cNvSpPr/>
            <p:nvPr/>
          </p:nvSpPr>
          <p:spPr>
            <a:xfrm>
              <a:off x="2079360" y="5778360"/>
              <a:ext cx="1933200" cy="642600"/>
            </a:xfrm>
            <a:prstGeom prst="rect">
              <a:avLst/>
            </a:prstGeom>
            <a:gradFill rotWithShape="0">
              <a:gsLst>
                <a:gs pos="0">
                  <a:srgbClr val="646b86">
                    <a:alpha val="58039"/>
                  </a:srgbClr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inistoz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2" name="Group 5"/>
          <p:cNvGrpSpPr/>
          <p:nvPr/>
        </p:nvGrpSpPr>
        <p:grpSpPr>
          <a:xfrm>
            <a:off x="1965240" y="380880"/>
            <a:ext cx="5087880" cy="6248160"/>
            <a:chOff x="1965240" y="380880"/>
            <a:chExt cx="5087880" cy="6248160"/>
          </a:xfrm>
        </p:grpSpPr>
        <p:pic>
          <p:nvPicPr>
            <p:cNvPr id="663" name="Picture 6" descr="2x"/>
            <p:cNvPicPr/>
            <p:nvPr/>
          </p:nvPicPr>
          <p:blipFill>
            <a:blip r:embed="rId2"/>
            <a:stretch/>
          </p:blipFill>
          <p:spPr>
            <a:xfrm>
              <a:off x="1965240" y="380880"/>
              <a:ext cx="508788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7"/>
            <p:cNvSpPr/>
            <p:nvPr/>
          </p:nvSpPr>
          <p:spPr>
            <a:xfrm>
              <a:off x="3068280" y="5777640"/>
              <a:ext cx="2511360" cy="581400"/>
            </a:xfrm>
            <a:prstGeom prst="rect">
              <a:avLst/>
            </a:prstGeom>
            <a:gradFill rotWithShape="0">
              <a:gsLst>
                <a:gs pos="0">
                  <a:srgbClr val="646b86">
                    <a:alpha val="54117"/>
                  </a:srgbClr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Times New Roman"/>
                </a:rPr>
                <a:t>Vratno rebro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7:31:13Z</dcterms:created>
  <dc:creator>Korisnik</dc:creator>
  <dc:description/>
  <dc:language>en-US</dc:language>
  <cp:lastModifiedBy>Milan Mijailovic</cp:lastModifiedBy>
  <dcterms:modified xsi:type="dcterms:W3CDTF">2024-08-29T08:44:54Z</dcterms:modified>
  <cp:revision>15</cp:revision>
  <dc:subject/>
  <dc:title>Slide 1</dc:title>
</cp:coreProperties>
</file>